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AFC7A-3C6D-415E-B3E7-FE1F814D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7BDB8-7554-4C15-AD06-94B98322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77BE4-DA5D-4218-83A2-3950423D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8748B-7871-4350-9348-616834D6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06A6B-D43F-4A12-9A29-B1BEC105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C7385-F735-4CA7-AE78-72BC0EA1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B2EC3-5801-495F-8B28-CE6ADEE7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C7412-C2E6-44DE-92DA-A3C6612F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ABFFC-8F18-4194-B64A-F47AB4CC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366C1-4B77-41CD-9345-0F5A3AE1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E08DA-67FD-4BFE-B4FC-92569351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B3B2A-2122-403C-9AA5-BD2B1DCE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921C5-2DFB-4CD1-A7A1-56EC92D8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C7F66-BE46-4C81-95B2-2824BC83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B6756-6044-4AF5-AEC8-2C3968E3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79D91-36F6-4DA8-B92F-F468B24E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81315-E7B1-47D1-B7BC-CAAF84C2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0DB8B-AAFE-4448-85BE-9CBA1B41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F9239-C74C-457C-B1D5-86662FC9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0FC1B-1955-4ABC-9C8C-3E334C62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94F65-AF0C-482A-84A4-22BE672C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4089C-6271-4454-993F-3E0D63A4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2CD7F-6443-4183-BD9F-8059169F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17D0C-981F-44DA-86F2-C2479C72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FD0F3-4371-43FB-B4D0-84D5F5DD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8C682-8483-4E09-AB2E-5A36ECD2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8BD71-4295-41E8-A8EB-A32DCEBC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ECC27-2852-470C-9944-9D340EB9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CFF1F-E976-449C-BA5A-12514CEE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F5DCF-EF69-4D5D-9CF8-ECA3D8A7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952BB-CCC2-4DDE-BBF1-EC768D44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62200-0CDF-4227-911C-216F8633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B8072-0891-4D52-B2AE-9C4F18AF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B8015-38EB-430D-8833-4AAC1386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7B831-B069-4E9F-98B0-9C809ECB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FD95C-FF69-449B-9406-C107B62A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FC364-A95C-43A0-85F3-C739DD2E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FF934-7B45-4DE1-9CFD-9A5E70EA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65575-AC5D-409F-BF87-8CF47764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A4ABD-3040-47BD-8A3E-509C1A12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FB00C-9AC2-48CA-8C56-B45E8A5D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4C79B-4651-49A3-BCB6-58925E35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C9714-B08C-4FF5-98F5-3358D7C1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14F20-F5B5-46B3-BA47-CFDADCF1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72F3E-B7A0-43C9-9ED3-04105923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72B-9953-4A64-A207-A3CE8F2A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981-0B05-41BE-8A22-A4320F72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717-9DDE-43F7-B47B-14B3CC9D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E2E-D803-41BD-9D1D-B708D573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2A4-C122-430A-9A80-ECDFAAF8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34D3-32B7-41E6-B7BC-7BA11059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CF9-530F-44F5-A539-3B41F870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4B97-25C9-46BD-B307-12F3CFB2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B78-2293-4067-B702-CB08ACA5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2C4-31A7-4186-9A50-1C867245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D3E-8592-44D8-8D07-016E3F38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E993-C8F3-460B-9F5A-454850C3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2CBD-D11A-4EF9-A992-F3DB743F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8AB0-3D8E-4C09-8216-2583118C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E44C-22F3-4034-93F2-AEEA386B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CA17-54FC-47D6-825A-348C350A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F7F1-B17C-49AA-A5C6-8EC87126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E807-C50B-4CC7-AB2D-F78CA74A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00BC-8033-4117-9B4B-26A96702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0A5E-D390-43FE-B4FE-0A0C6B5B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AC67-A5CC-4D36-BC18-2EDF7E9C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0B60-BE02-4884-B262-C7845B57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ECAA-0360-48B1-9830-B156E27B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1B24-D165-4C7A-B8BA-51CCB672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C6160-5197-4AFF-8657-B9496033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8FD37-8041-4C4C-A3B6-882BC690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913C2-C011-465B-9F00-4AEABDCA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1FBEF-3473-4CEE-ABF0-EB639A8E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18E5-7005-4A38-8005-98E09696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3C032-5763-426D-B88F-AB49BD9C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0E339-4AD8-4741-8DE5-EA393711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0E6AD-78C1-4908-A65A-0A2A954E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2D168-E439-4529-A484-BF0DEB45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A60F1-2EB6-4002-8AEB-42A8C891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099CF-30D1-4351-A9F7-99F7F231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2B4FB-3428-463C-AC16-C889A4E9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00EA2-A4B2-49B3-93B7-CC3A34D7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42CC4-18D1-485B-B12B-2C464450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365B1-D60C-4B6D-AA39-2380B69B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BBEC3-EFBE-4ED0-8D35-9FF6D6DC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C4A80-70BB-4B35-BA73-DCC56518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7CEE1-9237-433B-B693-025814E7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28396-B6BF-4D56-9A72-A1F35C6A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89AAC-0160-4459-98DD-30A5E25D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2BDE4-4714-445E-ADD1-D11EB48C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9E3AC-A5E0-4CBF-9F0A-BB8552C6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AE19D-A429-464A-82E9-707DD76E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FD497-9FF6-40AB-9FDF-D8F21A14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BC0FA-7637-4F00-B2B4-4CB76FF5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FFD82-D3FE-4C48-8977-076C88F2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EDFA2-C618-4F1A-801C-FB2B51D6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1AB04-4794-4B44-8D9A-CA76586D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5CFB2-5D44-4037-AD9F-121BEB9A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4F4CD-F770-46E2-97EF-FA8EA8CA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12868-3FF7-4B9E-8BB6-FDF21D16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BB342-99F5-4694-94CD-A44612C9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A15DB-1A15-4C83-A0FF-C4A56DF8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8F385-5D12-4CEC-821A-36AFA752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4529C-C8B3-44A5-8ABF-C5755706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1C731-841A-4FE2-8398-97EC1E57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D1BE5-077B-4D0C-B6C9-80C3D1B6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2D987-1077-4C5B-9B83-C1E24729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61E5F-C049-4812-93D4-5D018351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2809C-6FC5-4B19-9E1F-48219B16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36600-4B74-4528-BDDE-D9A98C42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6633A-AF40-49BB-83A4-D3826A96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3E838-DFE8-401D-B665-461C26F1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D93EA-28E5-4C6B-A8BB-6A83FB50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E2AC8-4080-401A-B1D1-444419F4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2C82E-5C45-4359-9A5A-7C741BBA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7E572-AE68-45FB-9B98-754560E7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40FD9-C4C1-4EB3-B84E-8DA6971E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92F24-D43A-4852-AE81-4A062F59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109C7-5C47-459E-AADA-127A99BB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08943-7C60-4B42-AC50-6492FD63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DDB79-5D96-48D4-A57B-9377D4BA9536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81928-9E77-47EB-89BF-86C3C5BAF51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030C9-8C43-49E9-AF53-BD17D52E3FC2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65FBA-88AC-465D-B1B6-D40EEDF5C48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A66C0-B513-4CF0-A4EE-7282006D2C3B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2C0B1-4F37-44FB-AE80-A56874F673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cover.jpg"/>
          <p:cNvPicPr/>
          <p:nvPr/>
        </p:nvPicPr>
        <p:blipFill>
          <a:blip r:embed="rId3"/>
          <a:stretch/>
        </p:blipFill>
        <p:spPr>
          <a:xfrm>
            <a:off x="1922400" y="457200"/>
            <a:ext cx="4592880" cy="5943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797446-0CEF-46B7-8DAE-2ABC12755BA6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A611C-5B4A-4D0E-A28F-3C938285819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3A83B-ADBB-40F8-A875-B849CB4E8AA8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56B097-DF7F-4BB7-A85A-0C3C25A6B49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8B92F-E1C0-4089-B376-46CBA3A29B8E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67F95-7000-4ED9-A397-92DB07BB4C3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A5BB6-C916-483D-96A9-6C9E440F2D52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AAED7-16E0-424B-B3D8-DBA3DA8040A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A7DF5-6B89-4053-AEBE-0D9668FC9F05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A1698-163D-40C8-ACD9-2C7E6D6B123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B7027-40CD-4CB0-AEB7-1412B6917C53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7BC37-97BE-49C9-9C7F-6AE995BB520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13C46-84DC-474A-AF7C-5C37B1CA46A8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61C45-9CD7-4B37-9888-671A1487502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HCV-Antibody Test (cont’d)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44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CV-antibody test results may also be negative in       HIV-positive people who have HC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can happen when people have less than 200 CD4            cells/m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because their immune system is not able to make antibod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V-positive people with less than 200 CD4 cells/m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who have signs or symptoms of hepatitis, such as elevated liver enzymes, yellow skin or eyes, or fatigue; or who have been at risk for HCV should have an HCV viral-load test,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even when an HCV-antibody test is negat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There are two different types of HCV viral-load tests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ualitat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measures whether or not there is hepatitis C virus in a person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blood; results are either detectable or undetectab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pick up very small amounts of HCV in a person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bloodst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usually used to diagnose HCV, and sometimes used to measure response during HCV treat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There are two different types of HCV viral-load tests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uantitat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measures how much hepatitis C virus there is in a person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blo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used to see how much virus a person has in his or her bloodstream before starting HCV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used to measure response during HCV treat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3156c"/>
                </a:solidFill>
                <a:latin typeface="Calibri"/>
              </a:rPr>
              <a:t>HCV viral load does not determine the need for treatment </a:t>
            </a:r>
            <a:endParaRPr b="0" lang="en-US" sz="40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orted as international units rather than copies per cubic millimeter (or millili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CV viral loads are much higher than HIV viral loads—sometimes in the tens of mill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infected people usually have even higher HCV viral lo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high HCV viral loa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oes no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 that a person needs to start HCV treatment, or that he or she has more liver damage, or that liver damage will develop more quick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61976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93156c"/>
                </a:solidFill>
                <a:latin typeface="Calibri"/>
              </a:rPr>
              <a:t>HCV treatment is more likely to work for people with a low HCV viral load</a:t>
            </a:r>
            <a:endParaRPr b="0" lang="en-US" sz="38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920" y="1904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CV viral load is one of the things that predict whether or not HCV treatment is likely to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ower it is, the more likely that HCV treatment will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lso used during and after HCV treatment, to see if treatment is wo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reatments may cure HCV regardless of the viral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93156c"/>
                </a:solidFill>
                <a:latin typeface="Calibri"/>
              </a:rPr>
              <a:t>Liver Enzyme Tests (ALT and AST) </a:t>
            </a:r>
            <a:endParaRPr b="0" lang="en-US" sz="42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er enzymes are proteins in the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perso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liver is injured, increased numbers of these enzymes leave the liver cells and enter the bloodstr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zyme levels can be checked by a group of blood tests, sometimes called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iver function test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LF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ests do not actually measure liver 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s cannot predict or tell someone how much liver disease they ha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Liver Enzyme Tests (ALT and AST)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anine aminotransferase (ALT; SGPT) and aspartate aminotransferase (AST; SGOT) are two liver enzy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L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made in the liver. If ALT keeps increasing over time, it may be a sign of hepatitis C prog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made in the heart, intestines, and mus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kaline phosphatase (ALP), gamma glutamyl transferase (GGT), bilirubin, albumin, and prothrombin time (PT) are other important liver enzym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Many things can cause abnormally high liver enzyme levels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r toxicity from prescription and over-the-counter medications, herbs, vitamins, and supp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osure to toxic fu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vy alcohol consum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ute or chronic viral hepatitis and certain other inf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oxing from drugs or alcoh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Some HIV medications are broken down by the liver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 can cause abnormally high liver enzyme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HIV-positive people who are taking ART or TB drugs—whether or not they are coinfected with hepatitis B or C—should have their liver enzyme levels checked regularl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HIV medications, TB treatment, and other drugs can be hard for the liver to break dow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When liver enzyme levels are higher than normal for several months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a signal that the liver is inflamed or damag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al liver enzyme level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o not always me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a person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liver is healthy—some people may have normal liver enzyme levels for years although they have serious liver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3156c"/>
                </a:solidFill>
                <a:latin typeface="Calibri"/>
              </a:rPr>
              <a:t>SECTION 5. HCV DIAGNOSTICS </a:t>
            </a:r>
            <a:endParaRPr b="0" lang="en-US" sz="32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first step in dealing with HCV is to get some laboratory tests from a medical provid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tests can te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a person has been infected with HCV;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ich strain (genotype) of HCV the person has;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L28B genotype, which predicts response to HCV treatment with PEG-IFN and some newer HCV medication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amount of virus (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viral loa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in the bloodstream;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the liver has been very damaged; and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well HCV treatment is work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When liver enzyme levels are higher than normal for several months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good idea to keep a record of your liver enzyme levels over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level goes up and stays up over several tests, it may be a good time to discuss HCV treatment with your doctor, as other causes for abnormal enzyme elevations are ruled 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3156c"/>
                </a:solidFill>
                <a:latin typeface="Calibri"/>
              </a:rPr>
              <a:t>ADVOCACY EXERCISE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Discussion Ques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Do you know where people can get tested for HCV in your commun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Are there free testing sites? If not, how much are the tes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Do health care providers explain what the tests are and what the results mean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Action Step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What can we do to make HCV testing easier to acce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3156c"/>
                </a:solidFill>
                <a:latin typeface="Calibri"/>
              </a:rPr>
              <a:t>HCV Screening Tests and What the Results Mean</a:t>
            </a:r>
            <a:endParaRPr b="0" lang="en-US" sz="28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04920" y="106668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baseline="30000">
                <a:solidFill>
                  <a:srgbClr val="ff0000"/>
                </a:solidFill>
                <a:latin typeface="Calibri"/>
              </a:rPr>
              <a:t>Step 1: HCV ANTIBODY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457200" y="1397160"/>
          <a:ext cx="7162920" cy="5324400"/>
        </p:xfrm>
        <a:graphic>
          <a:graphicData uri="http://schemas.openxmlformats.org/drawingml/2006/table">
            <a:tbl>
              <a:tblPr/>
              <a:tblGrid>
                <a:gridCol w="3581280"/>
                <a:gridCol w="3581640"/>
              </a:tblGrid>
              <a:tr h="42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itive 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 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4894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 are three potential meaning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c7812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person may have acute HCV; 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c7812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have chronic HCV; 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c7812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 infected in the past, but has cleared HCV and is no longer infe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person needs a viral-load test to confir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 are three potential meaning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c7812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person has never been infected; 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c7812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have been recently infected (within the last two weeks); 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c7812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have chronic HCV (if the person is HIV-positive, especially with a CD4 count below 200 cells/m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person needs a viral-load test to confir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baseline="30000">
                <a:solidFill>
                  <a:srgbClr val="93156c"/>
                </a:solidFill>
                <a:latin typeface="Calibri"/>
              </a:rPr>
              <a:t>HCV Screening Tests and What the Results Mean</a:t>
            </a:r>
            <a:br>
              <a:rPr sz="3600"/>
            </a:br>
            <a:r>
              <a:rPr b="1" lang="en-US" sz="2900" spc="-1" strike="noStrike" baseline="30000">
                <a:solidFill>
                  <a:srgbClr val="ff0000"/>
                </a:solidFill>
                <a:latin typeface="Calibri"/>
              </a:rPr>
              <a:t>Step 2: HCV</a:t>
            </a:r>
            <a:r>
              <a:rPr b="1" lang="en-US" sz="2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900" spc="-1" strike="noStrike" baseline="30000">
                <a:solidFill>
                  <a:srgbClr val="ff0000"/>
                </a:solidFill>
                <a:latin typeface="Calibri"/>
              </a:rPr>
              <a:t>RNA (VIRAL-LOAD) TEST </a:t>
            </a:r>
            <a:br>
              <a:rPr sz="3600"/>
            </a:br>
            <a:endParaRPr b="0" lang="en-US" sz="2900" spc="-1" strike="noStrike">
              <a:solidFill>
                <a:srgbClr val="93156c"/>
              </a:solidFill>
              <a:latin typeface="Calibri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457200" y="1397160"/>
          <a:ext cx="7162920" cy="5019480"/>
        </p:xfrm>
        <a:graphic>
          <a:graphicData uri="http://schemas.openxmlformats.org/drawingml/2006/table">
            <a:tbl>
              <a:tblPr/>
              <a:tblGrid>
                <a:gridCol w="3581280"/>
                <a:gridCol w="3581640"/>
              </a:tblGrid>
              <a:tr h="42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ectable 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detectable 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458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 are two potential meaning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c7812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person may be recently infected, and has acute HCV; 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c7812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have chronic HC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person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es no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ed a second confirmatory viral-load tes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 are three potential meaning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c7812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person has never been infected; 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c7812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 once infected in the past, but has now cleared HCV; 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c7812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 recently infected but is still in the process of clearing the infec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person needs a second confirmatory viral-load tes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baseline="30000">
                <a:solidFill>
                  <a:srgbClr val="93156c"/>
                </a:solidFill>
                <a:latin typeface="Calibri"/>
              </a:rPr>
              <a:t>HCV Screening Tests and What the Results Mean</a:t>
            </a:r>
            <a:br>
              <a:rPr sz="3600"/>
            </a:br>
            <a:r>
              <a:rPr b="1" lang="en-US" sz="2600" spc="-1" strike="noStrike" baseline="30000">
                <a:solidFill>
                  <a:srgbClr val="ff0000"/>
                </a:solidFill>
                <a:latin typeface="Calibri"/>
              </a:rPr>
              <a:t>Step 3: Second Confirmatory HCV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600" spc="-1" strike="noStrike" baseline="30000">
                <a:solidFill>
                  <a:srgbClr val="ff0000"/>
                </a:solidFill>
                <a:latin typeface="Calibri"/>
              </a:rPr>
              <a:t>RNA (VIRAL-LOAD) TEST in Six Months</a:t>
            </a:r>
            <a:br>
              <a:rPr sz="3600"/>
            </a:br>
            <a:endParaRPr b="0" lang="en-US" sz="2600" spc="-1" strike="noStrike">
              <a:solidFill>
                <a:srgbClr val="93156c"/>
              </a:solidFill>
              <a:latin typeface="Calibri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457200" y="1397160"/>
          <a:ext cx="7162920" cy="3039840"/>
        </p:xfrm>
        <a:graphic>
          <a:graphicData uri="http://schemas.openxmlformats.org/drawingml/2006/table">
            <a:tbl>
              <a:tblPr/>
              <a:tblGrid>
                <a:gridCol w="3581280"/>
                <a:gridCol w="35816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ectable 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detectable 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382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e person has chronic HCV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c7812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e person has never been infected; 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ec7812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was infected in the past but has now cleared HCV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e person does not have HCV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Two different blood tests are used to diagnose HCV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ntibod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st and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iral-loa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gnosing HCV is different from diagnosing HI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ositive HCV-antibody test result does not always mean that someone has chronic HC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simply means that a person was infected with HCV in the past, and may still be infe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who get rid of HCV without treatment (called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pontaneous viral cleara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usually stay HCV antibody–positive for year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3156c"/>
                </a:solidFill>
                <a:latin typeface="Calibri"/>
              </a:rPr>
              <a:t>The only way to determine if someone has chronic HCV</a:t>
            </a:r>
            <a:endParaRPr b="0" lang="en-US" sz="32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by doing a viral-load, or HCV RNA, tes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test looks for the actual virus—not antibodies—in a blood sampl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there is hepatitis C virus in a person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blood, that person is currently infected with HC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the test does not find the hepatitis C virus (called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undetectabl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, that person should get tested again, six months lat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the second test result is also undetectable, it means that HCV has been clea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HCV viral load is a very important test </a:t>
            </a:r>
            <a:br>
              <a:rPr sz="3600"/>
            </a:b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if treatment is prescribed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CV viral loads are usually much, much higher than HIV viral lo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a high viral load does not mean that HCV is more serious, or that liver damage will happen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est helps determine if treatment is working, if it should be stopped, and if it succeeds in curing the inf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est should be done before starting treatment, during treatment at specific intervals, and after treatment e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HCV-Antibody Test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egative HCV-antibody test result usually means a person does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have HCV—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ut not alway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times an HCV-antibody test result is negative, even when someone does have chronic HC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s happens for two reas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fter HCV has entered a perso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bloodstream, the immune system responds by making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ntibo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239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are sticky, Y-shaped proteins that wrap themselves around invaders, either disabling them or marking them so that the immune system can destroy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2392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takes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ix to 24 week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a person to make antibodies to HCV (often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window perio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8:13:04Z</dcterms:created>
  <dc:creator>Lei Chou</dc:creator>
  <dc:description/>
  <dc:language>en-US</dc:language>
  <cp:lastModifiedBy>Andrea Benzacar</cp:lastModifiedBy>
  <dcterms:modified xsi:type="dcterms:W3CDTF">2013-11-06T18:53:44Z</dcterms:modified>
  <cp:revision>73</cp:revision>
  <dc:subject/>
  <dc:title>Slide 1</dc:title>
</cp:coreProperties>
</file>