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0E7A-BB13-407F-8E4C-FCEDE39B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0EC59-1AE9-448E-9ABC-FA57F1CE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57A8-A20E-47CA-96EE-F53F32F3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FD48-A439-4A57-B067-9B299A84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2B62E-CDAE-422B-9E26-69C4AD52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6A290-2119-4088-99E4-0DA84D4D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E8A71-240A-4272-8BE4-3A0CFF4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3C4F9-8B53-4BC1-8BDE-2359FC08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BB992-F544-46ED-9BE5-83814FDE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C014-3B2B-4578-A9FB-45DD6D2C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CBC1-5C2F-4457-A1D5-90EAE9AB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1144E-3919-475C-8392-8BC5528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65B9-6AFF-4399-9D4C-D8117BBD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5ABAA-62DA-4C4F-B87E-A821C900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D722C-2AFA-40A0-83C4-47FE70D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6AFAE-6681-422A-9673-4441CD4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DB98E-AC11-4596-9DBD-67664FE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E27C2-1E75-49C3-973D-621AB4E5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9E4B-B36B-45F7-A4AC-81BCF07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CFBE9-358E-4A9A-9B59-D11C4616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82CC3-0F47-41BB-A931-518667A4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1F7E4-A8B0-4896-A139-5AE7172E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D8A42-04B8-4023-8A01-4B33C5FF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6174-D164-4106-BB9B-F93250A5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AE0C5-91B9-4A7F-B140-1AF7B73E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D2BF0-50FF-4826-95DD-D332F2F1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51035-551E-455D-9F5E-473FB682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5969B-63E9-4FD6-B637-34C7F2D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4980B-3A98-4F56-A559-AEABE9CE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B9C81-9F9A-41BE-93B9-07482794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1589A-8A55-4C0B-AD75-3B7B3C2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CFB28-9444-4782-B591-E5321A1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FD10E-EDD8-48F7-A51D-E09E9DCE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8565E-01AA-478A-B2D8-52E461E0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BA768-E02D-4B0B-86C8-6F3571A6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8DFA2-4C18-4F90-A7FB-D54431B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2F677-07D4-4E1F-A25F-5F36AAE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A7822-447B-4E35-BE51-BFBD21CF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4570C-946E-4CDA-A9B6-965CE6E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05C04-FE01-4E20-B632-7EBCB6F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F29AF-98C5-4C70-8468-2B71A43E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310A-59A4-4E22-AC64-C38CF8A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3A79B-8CAE-4C41-95FF-D1F52C0E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D89D8-D145-4116-9FD2-F282F93C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42A4D-B2AC-4F4B-B3D7-06378832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E83-529B-48B8-BC0B-EAD6F292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ABB-70E3-4381-94A1-99C5DF3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9FA-A216-4F55-994E-FB13CF4C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4CD-D1A4-46D8-92B0-E0715C65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63C-442B-441D-9D64-97656F00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022-ED46-4CFC-80E8-8BE075F8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0B1-52C4-4B34-8892-8EF2A9B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242-B1D2-4CDD-8376-18152CA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E12-4637-422A-816F-AD1554C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8E8-A927-409C-A6D8-DB554C0F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22B-50F9-4BBC-8D83-48B856F5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620-16F1-4D28-8249-4944FFF7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0A6-10C7-451C-AF49-480C9AEA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F40-B269-4751-AECD-B0E69E0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173D-C89B-4025-801B-DFF90C7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898-B86F-4999-95B3-2197322E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924-9A86-4C5A-8ED8-27F6F27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22A1-E270-4A58-803A-48D858BF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0EF9-2362-4B21-90EA-E0784A5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0788-E4E5-468E-8ED0-339925E8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829-4FFC-4126-A3AD-F1249235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0BE-5930-48E4-9F10-294EA8A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322-AB70-43E1-8E55-2FBD080A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F112-395C-4982-B4CE-792BC4FA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A399-A0C7-4316-B045-FB8F38DC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FC96-A1DD-4139-8B2A-843BF0B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C6FE-3348-4CAF-8A82-E56A0E98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4AFB-E917-400B-AB4A-AB7DD5C5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07E4-608D-4014-9D76-3AAB8F34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AB7C-0791-4E97-8A99-D6E806B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DE18-58B4-4136-81B8-6525AC7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9F7E2-DE20-45BE-B55E-6208B4B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EB01-1771-4C8F-9AE3-9DB88A6C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5B66-4536-4227-A080-47AA736E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F03D-E03D-405A-8BE7-F04A8163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B43A-746C-4154-AC83-AAFD8CC7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6D6F-1293-4543-85C9-189F1771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A273-458E-4EF3-90B9-9BF7BB0E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E4AE-D114-45DB-926F-28FD4C1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89FB-4DD9-49F5-99A1-D1ED474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7DFC-18C3-4774-B192-7DDC8030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E373C-F273-495A-9259-0DD9DE6B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C379-F39B-4F82-8EA6-980D7D39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7C9E-85B6-4881-8568-580B4093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E643-DF1E-4575-949E-EFB4AEF1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389A-7BA6-4F46-AD85-79D52CFB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AC502-4FE0-4BC6-AD34-94205E15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444F5-95C1-4056-99EB-EEB1B6BD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BB959-8018-48ED-B96C-4EA133F5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92C5-8E36-447A-89AE-20EBD519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E2C6E-AD37-4AB6-A13D-537AA4D8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909F9-C002-49E2-9622-FD52FC48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27B2-8EA7-43A4-9871-5729E04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A831-F428-4EBF-9DBA-B9B69FDB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3AC78-4EB5-46A5-8006-511F6CA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E2EC-CBB3-4E66-8B90-A33BFD0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C4233-FAAD-44B7-9285-63C0CCF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B105F-EAA7-4A24-8648-441EFDFA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0FC7-6194-4F3F-A838-0D612293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91511-2DBD-4289-A692-F9CC479F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DBA66-77F0-428B-9040-4138F098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8295F-EA5E-49D7-8A9F-24C33E3E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39BE1-9B20-4D66-98E6-622A4DC7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038E-1631-4339-B4B8-B8EF7DDF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50B4-B7B2-44A6-8E63-E4D6144E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884D-49F3-4360-AEAA-1656CB51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86071-A3B2-4FD1-8C33-59A33C43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CAB9B-27A4-4085-98C3-F7F67190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941DA-7A0B-417F-840E-87D3438F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04920" y="418716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75EA-0322-4C61-8361-5104277C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09120" y="160020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209120" y="4187160"/>
            <a:ext cx="3718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1FE8A-1F45-450B-80CB-833076F1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88144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457960" y="160020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0492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88144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457960" y="4187160"/>
            <a:ext cx="245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FB16-F9DB-42CF-BE4B-B3229A05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4D27-253E-4D5D-9BC1-32E9DC2D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54E8F-38FF-497D-87E5-EFF9874E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726D-703C-4184-9281-8D4EA834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E176B-FF03-41CE-B9D8-EFE707F2804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FEFBD-A921-451F-BF0D-CB444F18CE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9F44C-BF65-44E5-8100-7FD23D8CAA1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A3940-8CEC-4806-A11E-F48AB48FD5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1DAA7-25B6-4AEA-9930-E33C7D2CB33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A2436-43A7-44BF-BF02-2F12637869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ver.jpg"/>
          <p:cNvPicPr/>
          <p:nvPr/>
        </p:nvPicPr>
        <p:blipFill>
          <a:blip r:embed="rId3"/>
          <a:stretch/>
        </p:blipFill>
        <p:spPr>
          <a:xfrm>
            <a:off x="1922400" y="457200"/>
            <a:ext cx="4592880" cy="5943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B1C1A-9A41-437A-9BF7-D2AA4B70039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E2E6B-1E8E-44A3-A1AA-E63F21E3D9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09B15-7D80-4832-8F67-D30CE5D3DCE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2F219-11EC-43D0-AC51-792194C95D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046B1-4620-4AC3-9EA0-2BF5B9E435A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4A008-9A53-43F1-94CD-BEB761E279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1FA10-46AF-4D2F-8573-923961E1166C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82023-4837-4044-9A18-62F0F64633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7A2E2-E24A-4845-A26F-D5B4F993FA20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F381A-56F1-4B52-A409-25D25ED6932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FED6B-2EAA-4098-B783-5C14432CE2BB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C67CE-D6EF-44A4-9D03-4EBF242255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tag logo inverse.jpg"/>
          <p:cNvPicPr/>
          <p:nvPr/>
        </p:nvPicPr>
        <p:blipFill>
          <a:blip r:embed="rId2"/>
          <a:stretch/>
        </p:blipFill>
        <p:spPr>
          <a:xfrm>
            <a:off x="8218440" y="1204920"/>
            <a:ext cx="936720" cy="4255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8"/>
          <p:cNvSpPr/>
          <p:nvPr/>
        </p:nvSpPr>
        <p:spPr>
          <a:xfrm>
            <a:off x="8218440" y="0"/>
            <a:ext cx="925560" cy="1204920"/>
          </a:xfrm>
          <a:prstGeom prst="rect">
            <a:avLst/>
          </a:prstGeom>
          <a:solidFill>
            <a:srgbClr val="ec7812">
              <a:alpha val="82000"/>
            </a:srgbClr>
          </a:solidFill>
          <a:ln w="0">
            <a:solidFill>
              <a:srgbClr val="93cdd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0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8218440" y="1631880"/>
            <a:ext cx="938160" cy="5227560"/>
          </a:xfrm>
          <a:prstGeom prst="rect">
            <a:avLst/>
          </a:prstGeom>
          <a:solidFill>
            <a:srgbClr val="93156c">
              <a:alpha val="70000"/>
            </a:srgbClr>
          </a:solidFill>
          <a:ln w="0">
            <a:solidFill>
              <a:srgbClr val="c3d69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3"/>
          <p:cNvSpPr/>
          <p:nvPr/>
        </p:nvSpPr>
        <p:spPr>
          <a:xfrm flipH="1">
            <a:off x="8217000" y="1440"/>
            <a:ext cx="1440" cy="685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3156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6307E-E06F-466E-BCBD-681D7CFBA6CE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24233-CE92-4DA0-ABE9-352A94E4800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93156c"/>
                </a:solidFill>
                <a:latin typeface="Calibri"/>
              </a:rPr>
              <a:t>SECTION 10. FIGHTING FOR NEW HCV DRUGS</a:t>
            </a:r>
            <a:endParaRPr b="0" lang="en-US" sz="28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many new oral HCV drugs, called direct-acting antivirals (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DAA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being develop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work by attacking different parts of the hepatitis C virus, making it impossible for the virus to reprodu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different classes of DAAs, each targeting a specific part of the HCV life cy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1800"/>
              </a:spcAft>
              <a:buClr>
                <a:srgbClr val="ec7812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rtain DAAs will be used with PEG-IFN and RBV (but for a shorter time) or just RBV, and some will be used with each oth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Fighting for new HCV drug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rug makers will sell older drugs at a lower price, making them accessible in some middle-income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se drugs work only for people with a certain HCV genotype, and they are less effective and have worse side effects than newer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93156c"/>
                </a:solidFill>
                <a:latin typeface="Calibri"/>
              </a:rPr>
              <a:t>Fighting for new HCV drugs</a:t>
            </a:r>
            <a:endParaRPr b="0" lang="en-US" sz="40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920" y="129492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per treatment may wind up costing more to people with HCV and health care system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ople may need to switch their ARVs to avoid drug interactions with DAAs, but certain HIV drugs may not be available everywhe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ral tests are needed to monitor safety and see whether treatment is work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medical visits are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de effects make it difficult for many people to complete treat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7619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3156c"/>
                </a:solidFill>
                <a:latin typeface="Calibri"/>
              </a:rPr>
              <a:t>Fighting for new HCV drugs</a:t>
            </a:r>
            <a:endParaRPr b="0" lang="en-US" sz="32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12193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drugs need to be taken every eight hours, with food; others are taken every 12 hours, making adherence diffic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ment duration depends on whether or not someone has an early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uncertainty makes it difficult for people who are considering HCV treatment, and for medical providers, who need to put aside sufficient time for patient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3156c"/>
                </a:solidFill>
                <a:latin typeface="Calibri"/>
              </a:rPr>
              <a:t>Fighting for new HCV drugs</a:t>
            </a:r>
            <a:endParaRPr b="0" lang="en-US" sz="36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04920" y="1066680"/>
            <a:ext cx="7619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important to learn about the local and national epidemics where you are so that you can advocate for the best possible HCV treat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some HCV DAAs cannot be used with certain ARVs—these may be the ones that are most widely available in you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DAAs work only against a single genotype; others may not have been studied in many people with the genotype—or genotypes—that are most common in you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gimens are simple—fixed-dose combinations that require less monitoring during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93156c"/>
                </a:solidFill>
                <a:latin typeface="Calibri"/>
              </a:rPr>
              <a:t>ADVOCACY EXERCISE</a:t>
            </a:r>
            <a:endParaRPr b="0" lang="en-US" sz="4400" spc="-1" strike="noStrike">
              <a:solidFill>
                <a:srgbClr val="93156c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920" y="16002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Discussion Questi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do we know about HCV in our are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What do we need to know about new HCV drugs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Action Step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5541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How can we create or improve access to the DAAs that are right for 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5:08:03Z</dcterms:created>
  <dc:creator>Lei Chou</dc:creator>
  <dc:description/>
  <dc:language>en-US</dc:language>
  <cp:lastModifiedBy>Andrea Benzacar</cp:lastModifiedBy>
  <dcterms:modified xsi:type="dcterms:W3CDTF">2013-11-05T21:18:54Z</dcterms:modified>
  <cp:revision>95</cp:revision>
  <dc:subject/>
  <dc:title>Slide 1</dc:title>
</cp:coreProperties>
</file>