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5A450-93CB-4CBC-9AB1-18C65C09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63D1D-5658-4017-8512-098570CD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E3B7B-2B55-4A01-8143-4B468E97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8685A-8D3B-4058-8040-8BD55091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75FBA-1C4E-4653-8AB8-978E92F1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DC790-ACE4-4DDB-B851-9E71FFB0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8A247-84C3-4EC8-82E9-92F14671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7D69B-1F26-418C-9852-4C73A402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B814B-5414-4A9A-8F38-6263447B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83C6A-73DD-48DF-9A49-B2B7075D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D8076-8B4B-46CA-9F83-3E2D84D8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AFF44-161C-4150-86D8-DB8DCE7A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F250F-B987-4605-A028-9072E8D7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A3B0C-74E4-4F0B-A20E-9E332682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D2531-D55A-4B79-87CF-2D660EFB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95688-8A42-4B5D-84AE-242EDAC2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11AF5-1956-4B6B-9543-C88EFA71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7F88B-CE86-40AD-9E57-CDB947D5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0A6F0-5E83-4ADD-8A05-00630937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5EAD8-2AE2-493D-A01F-010661CA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F5C4B-7683-464C-8DE9-A58390B3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7CF0C-2497-4F65-9811-B4AADCA7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3BE0F-E96A-4378-B1C9-E1534A17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D130E-148D-4E09-AD82-F913B03B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AEC82-C80A-4588-A4B0-B1FEEA28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1E679-8407-4B60-A887-38BA410E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7C8E6-6DCC-43E5-B744-2564F547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395D4-1E28-4452-9619-0DED9F49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8486D-FD16-495C-A3E1-BC41D39F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F3FDA-B5D0-40E5-AEC5-0A4C425E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94A05-BC3F-485F-83B1-C0F5A4FD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252F9-FEB1-4A79-BF7D-A08F8356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F5D81-E774-46E9-AE16-491394A5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C19D1-1C53-4FA6-B1C3-8346173E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7FF3F-5081-4CF9-8DB7-4EC06C97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68E11-4B02-4403-AF12-B16EBD14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DC41F-401E-4AE7-A952-A425F33B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5F2D8-FA8C-41F6-A0E7-0B620E3E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8D855-BC12-41E7-AB8D-39CAD14F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DE5C3-E4B6-4EB9-8010-3EEB142A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F853C-81A8-4367-8D4D-CCA7BF1C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8F830-AA29-44CA-A957-3BE39DEB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B8F2A-4A78-464F-A91A-AE2764CC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F55BD-F866-48B3-AC8C-D82118CE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AA96B-6F35-4891-B523-1AD2C794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07EA-7AFF-4768-9165-3ADE9B20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729-A073-4807-AF5E-13C20338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DEE-CBD2-4C0B-A8A7-C862C676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D0D-4859-4655-A80F-9CA15F58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F60-91FC-4400-A8C6-7292A688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AFC6-FE61-4ECB-A464-B5212DF1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073-A287-4F74-AEF2-93F264B3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DE7-1B87-4E1B-A24F-8A925B19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14E1-9507-4393-9711-343722C6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BB4-6085-4F11-9BD7-3A7C1BAA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51ED-8836-4914-B2CF-D32CE104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29EE-6466-46D2-A2F1-1278B604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9AD6-6995-41BB-9C79-31E1F770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0B1E-1BAD-4FAA-883C-0131A647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C925-357F-4CEE-9E81-2DAB9FBB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42DE-F6C9-4043-B315-1441760B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2E18-42A6-4329-A416-FDC6CB40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BE7B-1581-4864-B5CE-418B269D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771E-9F2A-49B6-A260-4367372E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2D68-A799-4366-A41C-B26C9111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E459-8BA8-4500-8A71-43CBE8A1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8AEB-83D9-4DAA-9268-C5ABB645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DBE6-7E66-4C6D-A137-D45A45E0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9428-1FF1-4285-A2B4-2B7386B6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10C71-5C7A-49A3-860B-F4CF5EDE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E3AD8-9DD6-4813-908D-44141051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30644-B643-471A-8499-C709D29F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3A751-FE60-43C7-8DF4-16240510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7B7E9-12EE-4221-A43A-69877314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3B0EF-D93A-4EF7-BBEF-0C9527C5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74D6-DEDE-4991-BE79-73D35260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761C1-49BF-44DD-BAE4-BF0B0C07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64AC7-2316-4695-BD7B-7975A922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A745D-907B-4EB9-901B-572F9E04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56978-FC8A-4A5A-B02D-37EEBE1E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8AB8B-5564-42B9-858A-A028424A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E9ADB-7D85-4BCD-BF94-2D611896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92899-965F-47BB-BE1D-46D69B00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16E84-D2DD-46DB-954A-AA4EFF9D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505A9-7095-4413-9AF6-9AE0B8C2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A60BD-59D4-4229-BC9C-7E3D1D41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E136A-1724-4BAC-909B-D3468E55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13FFD-BE4F-426B-9EC0-D27A46D1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AB556-4E58-4ED2-A838-5B716783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6FFDA-B070-44F9-A8B8-F796F442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F613D-1468-43DC-A643-6AD187F8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ED528-15B3-42EA-800A-AF74362E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EA052-59FA-4652-BE9B-EAC510B5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9317D-7EF9-4F58-BC0E-F3F00A6C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FD1EC-4F1A-491F-A47B-078D647A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3B140-BC5D-49E4-8A90-412BDAA5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C2833-1057-4DFE-A5B7-7A1C4432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BC4A6-58C9-46B9-8F48-CA18AABE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15807-F451-419C-9D0F-11169FFB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A708A-9AE9-40AB-966B-2F3A7223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FDFB8-A5D5-4536-8D02-89251834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952AD-25D0-4202-962D-C1551B34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3AA6E-9E98-4C94-B8BB-A3914A87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13260-6024-4174-8786-A1DE7B7A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053FD-6F3F-4192-A5C0-EAD42D2F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AD75B-6F62-4154-87F5-4EDA6E1E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5A976-8D20-465D-A451-01CA1DA4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D9B38-2739-4F1C-AFB4-B32E7B2A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4BAE3-A48A-4298-8099-74DD84EB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2832A-3710-4732-89D9-047CC7D2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F46B5-112F-4275-BEBA-5707BCD3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E9FE2-6D2A-42B3-96B8-D46457BA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A84F5-6AD1-45F2-B8F3-C82C9F1A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AD060-4501-46C6-8DE3-BD3E8D23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E320D-B213-406A-B339-ABFCFD04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D083F-6B6F-4EC9-B5C5-29FF2E31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904B0-0E3C-442E-AA7B-1018F785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18370-868F-49E0-90A1-6F3362F7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3FDA8-5B18-4739-9098-87A05568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09D83-59FF-4351-B451-D49DA0D8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F706A-6FF5-4FD7-A9D9-2B18989BBE29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90951-AD82-41CE-956A-5F3F387DCAE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DE327-D497-484D-B827-27248CEB37AE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909F5-9AA7-4887-AB8F-D3B9A0FD4FE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4EC53-CCCE-4EF6-94B0-1AE3784112EB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800BA-9EA2-4233-A8BE-9285E7B3FC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cover.jpg"/>
          <p:cNvPicPr/>
          <p:nvPr/>
        </p:nvPicPr>
        <p:blipFill>
          <a:blip r:embed="rId3"/>
          <a:stretch/>
        </p:blipFill>
        <p:spPr>
          <a:xfrm>
            <a:off x="1922400" y="457200"/>
            <a:ext cx="4592880" cy="5943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339B1-321B-40F5-B6AE-57C3D88E03A1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EC5A4-47F8-49DA-8382-1DBDD8DF56B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8E8A5-BEE3-40CA-9F91-7274707C6339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C911B-E4D6-4D97-9CC9-12AFB0559FE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3F475-316D-4F75-AEC4-37AD9C9F540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7C1A4-252E-4954-9702-FAE62A78E8B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FE5C9-BA34-4BD9-B249-3658E566DE69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0E1B0-9EDF-43DB-8BFD-7AD2E112609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61052-21B7-46F5-B043-5B5D11123874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2FCA1-369E-4FBD-8F8D-7430D06E25C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AE7C9-4553-42AE-8CEF-3D437AC9030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7ECB9-E616-4BF7-B40D-74FCC95241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45A93-4030-4175-AEE4-F151DCCD4D4F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2E0C0-D21B-45D5-8BD6-72DB04BBEB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How Well Does HCV Treatment Work? 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5" name="Content Placeholder 2"/>
          <p:cNvSpPr/>
          <p:nvPr/>
        </p:nvSpPr>
        <p:spPr>
          <a:xfrm>
            <a:off x="457200" y="1417680"/>
            <a:ext cx="762012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factors help predict whether or not HCV treatment will work i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no one can predict how an individual will respond to HCV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ers are still trying to determine whether these factors continue to be important when treating people with the newer drugs (DAAs) now in clinical t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some treatments may treat several or all genotypes equally effectiv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Results from clinical trials do not always apply in the real world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600200"/>
            <a:ext cx="7619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in clinical trials are picked carefu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may not have other medical conditions that are common among people with HCV, or may have less liver damage, and be in better health over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safer to try new treatments in the healthiest possible 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people who are unlikely to respond to a treatment are excluded from trials to make the results look bette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3156c"/>
                </a:solidFill>
                <a:latin typeface="Calibri"/>
              </a:rPr>
              <a:t>Response to PEG-IFN/RBV by </a:t>
            </a:r>
            <a:br>
              <a:rPr sz="4000"/>
            </a:br>
            <a:r>
              <a:rPr b="0" lang="en-US" sz="4000" spc="-1" strike="noStrike">
                <a:solidFill>
                  <a:srgbClr val="93156c"/>
                </a:solidFill>
                <a:latin typeface="Calibri"/>
              </a:rPr>
              <a:t>HIV Status and HCV Genotype </a:t>
            </a:r>
            <a:endParaRPr b="0" lang="en-US" sz="4000" spc="-1" strike="noStrike">
              <a:solidFill>
                <a:srgbClr val="93156c"/>
              </a:solidFill>
              <a:latin typeface="Calibri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04920" y="2666880"/>
          <a:ext cx="7619760" cy="1857600"/>
        </p:xfrm>
        <a:graphic>
          <a:graphicData uri="http://schemas.openxmlformats.org/drawingml/2006/table">
            <a:tbl>
              <a:tblPr/>
              <a:tblGrid>
                <a:gridCol w="3276360"/>
                <a:gridCol w="2210040"/>
                <a:gridCol w="2133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V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CV Onl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IV/HC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otype 1 (PEG-IFN/RB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–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–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otype 1 (PEG-IFN/RBV+DA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–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otype 2 (PEG-IFN/RBV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–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otype 3 (PEG-IFN/RBV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–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570" name="TextBox 5"/>
          <p:cNvSpPr/>
          <p:nvPr/>
        </p:nvSpPr>
        <p:spPr>
          <a:xfrm>
            <a:off x="304920" y="4724280"/>
            <a:ext cx="43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rom one phase II study using telaprevir and PEG-IFN/R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Side Effects of HCV Treatment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make it difficult to stay on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se for people who have more serious liver damage or are HIV/HCV-coinfe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people have trouble working during trea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very important to talk with other people who are, or have been, on HCV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ir experience and support can be very helpf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k your health care providers about how they manage side effects before you start HCV trea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ommon Side Effects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u-like symptoms, such as feeling weak or feverish, and having aching muscles and joints, headache, nausea, and appetite lo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 worse for the first day or two after injecting PEG-IFN—schedule weekly PEG-IFN when you can rest for a day or two afte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managed by taking low-dose acetaminophen (paracetamol; Tylenol) and antinausea drugs, and drinking plenty of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ight lo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Help for Common Side Effects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ting smaller, light meals throughout the day may help boost ener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ing regular naps, doing light exercise whenever possible, and taking methylphenidate (Ritalin) or bupropion (Wellbutrin) may help with fatig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Mental Health and Depression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important to have access to peer support and mental health care before starting HCV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G-IFN can cause anxiety, irritability, insomnia, mania, and mood sw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 PEG-IFN and RBV can cause mild to very serious de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rare cases, people have become suicid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who have been seriously depressed in the past are more likely to become depressed during HCV treatment, but it can happen to any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Mental Health and Depression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04920" y="13716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people take antidepressant medication before starting HCV treatment, because it may take time to find the right med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eople prefer to wait and see if they become depressed during HCV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depressants have their own side effects, so some people prefer to avoid using them unless they need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hanges in Blood Cell Counts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04920" y="1294920"/>
            <a:ext cx="761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G-IFN can cau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white blood cell counts (called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eutrope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white blood cells fight infec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red blood cell counts (call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em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red blood cells carry oxygen through the bod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platelets (call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rombocytope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platelets help blood to clo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V/HCV-coinfected people are more likely to develop these side effects during HCV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ng an HCV protease inhibitor to PEG-IFN and RBV can increase the risk of these side eff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6197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hanges in Blood Cell Counts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04920" y="1219320"/>
            <a:ext cx="76197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em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emia makes you feel very, very t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tors can reduce the ribavirin dose (which may make HCV treatment less likely to wor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idovudine (Retrovir; AZT), an HIV drug, can also cause anemia; HIV-positive people should avoid AZT while they are on HCV trea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utropen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s the risk of getting a bacterial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tors treat it by reducing the PEG-IFN do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3156c"/>
                </a:solidFill>
                <a:latin typeface="Calibri"/>
              </a:rPr>
              <a:t>SECTION 8. HOW TO TELL IF HCV TREATMENT IS WORKING </a:t>
            </a:r>
            <a:endParaRPr b="0" lang="en-US" sz="32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in goal of HCV treatment is to completely get rid of, or cure, the vir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ing—and curing—HCV can reduce the risk of cirrhosis, liver cancer, liver failure, and liver disease–related death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who have cirrhosis before they begin therapy are still at risk of developing liver cancer—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ven if they are cured from HC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r monitoring after successful treatment may be important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specially for people with cirrho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hanges in Blood Cell Counts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rombocytopen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V can cause thrombocytopenia, and sometimes people with serious liver damage have thrombocytopenia because the liver cannot help to make plate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people get thrombocytopenia during HCV treatment, they usually take a lower dose of PEG-IF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rombocytopenia becomes very serious, HCV treatment should be stopp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Side Effects from Adding an HCV Protease Inhibitor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laprev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in bilirubin and uric-acid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sh (reported as very serious in 4% of clinical trial participants), i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morrhoids, itching and burning in and around the a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usea, vomiting, diarrh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ysgeusia (a bad or strange taste in the mou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Side Effects from Adding a HCV Protease Inhibitor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ceprev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tig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us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miting, diarrh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sgeu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ache, dizz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undice, and elevated liver enzyme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3156c"/>
                </a:solidFill>
                <a:latin typeface="Calibri"/>
              </a:rPr>
              <a:t>ADVOCACY EXERCISE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Discussion Ques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How can we increase access to HCV care and treat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What are the other services that we need, such as: peer support programs, better access to opioid substitution therapy (OST), and mental health progra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Does your country have HCV treatment guidelines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Action Step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What are our most important arguments to policy makers for increasing access to HCV treat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What can we do to get a clinical trial for hepatitis C treatment that works for people in your community (e.g., people with genotype 3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Terms used to describe how well HCV treatment is working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VR (rapid virological response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means that a person has no detectable hepatitis C virus in the blood after four weeks of treatment. An RVR is a good predictor of a cure, but people who do not have an RVR may still be cured after a full course of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VR (early virological response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means that a pers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hepatitis C viral load drops by 99 percent (also called a 2-log drop) from pretreatment levels after 12 weeks on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3156c"/>
                </a:solidFill>
                <a:latin typeface="Calibri"/>
              </a:rPr>
              <a:t>Terms used to describe how well HCV treatment is working</a:t>
            </a:r>
            <a:endParaRPr b="0" lang="en-US" sz="40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a person doe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ave an EVR, they are extremely unlikely to be cu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ople who do not have an EVR usually stop HCV treatment at this poi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ccess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HCV viral-loa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esting after 12 weeks of treatment is very importa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treatment isn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 working, there is no need for someone to stay on it and suffer the side effects, 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 need to pay for an entire year of treatme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3156c"/>
                </a:solidFill>
                <a:latin typeface="Calibri"/>
              </a:rPr>
              <a:t>Terms used to describe how well HCV treatment is working</a:t>
            </a:r>
            <a:endParaRPr b="0" lang="en-US" sz="32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1676520"/>
            <a:ext cx="76197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R (end-of-treatment response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means that a person has no detectable virus after finishing HCV trea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VR (sustained virological response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means that a person has no detectable HCV during treatment and remains undetectable 12 weeks (called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VR-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or 24 weeks (called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VR-2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fter finishing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VR-1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 good indicator of SVR-24, becau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V usually comes back within 12 wee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VR-2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still considered a c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Terms used to describe how well HCV treatment is working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terms will change when new HCV drugs are us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important for people who were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not cur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alled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reatment-experienc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to know what happened during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ffectiveness of new treatments may be different depending on how a person responded to prior treat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Terms used to describe </a:t>
            </a:r>
            <a:br>
              <a:rPr sz="4400"/>
            </a:b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prior treatment history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eakthroug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happens when a pers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viral load becomes undetectable at one point on treatment, but becomes detectable at a later point in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a second viral-load test to confirm that HCV is indeed detec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it is, the person should discontinue treat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ial responder or nonrespond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one whose viral load drops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t does not become undetectabl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24 weeks of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Terms used to describe </a:t>
            </a:r>
            <a:br>
              <a:rPr sz="4400"/>
            </a:b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prior treatment history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ull respond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one who sees little or no reduction in HCV viral load during trea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ps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one who has an end-of-treatment response but whose HCV comes back after finishing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has happened to about 18 percent of people who have been on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 the virus will reappear in the bloodstream within 12 weeks of finishing trea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How Well Does HCV Treatment Work? 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304920" y="838080"/>
          <a:ext cx="7619760" cy="545472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400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PEG-IFN/RB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PEG-IFN/RBV + DA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DAAs-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otyp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otypes 1, 2,3, 4, 5, and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combinations will work for all genotyp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viral l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not differ based on viral l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not differ based on viral l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 geno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difference between genoty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 difference between genoty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 effective for African Americ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not differ by r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not differ by r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V-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difference with HIV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herence is import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herence is very import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herence is very import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 effective in people with cirrho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 effective in people with cirrho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 effective in people with cirrho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 effective in people who are overwe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92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 effective in people who have insulin resistance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 2 diabe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sp>
        <p:nvSpPr>
          <p:cNvPr id="563" name="TextBox 5"/>
          <p:cNvSpPr/>
          <p:nvPr/>
        </p:nvSpPr>
        <p:spPr>
          <a:xfrm>
            <a:off x="304920" y="6477120"/>
            <a:ext cx="69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eans the treatment has not been well studied in people with thes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15:08:03Z</dcterms:created>
  <dc:creator>Lei Chou</dc:creator>
  <dc:description/>
  <dc:language>en-US</dc:language>
  <cp:lastModifiedBy>Andrea Benzacar</cp:lastModifiedBy>
  <dcterms:modified xsi:type="dcterms:W3CDTF">2013-11-06T18:54:34Z</dcterms:modified>
  <cp:revision>88</cp:revision>
  <dc:subject/>
  <dc:title>Slide 1</dc:title>
</cp:coreProperties>
</file>