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44704B-32FC-4EBC-AE76-A77596B538D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C2483B-A509-44A0-82DA-9353504619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C32AE4-59EA-47A7-9AE5-13300B3B7E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1485A5-BBAF-4026-94FE-44FE22FE6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7D842E-93FB-4DBF-9EDA-54190BAA7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32C449-CD77-4DF9-B811-55B0386D7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AB0C2F-F537-4114-960B-A79CE0F13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FCF179-5E2F-47DD-ADF9-ED12684EA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B3C648-FA39-48F7-92C8-35789CC5A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84B633-5CAF-474D-A64B-DD6B0E9B1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C8E601-C7D1-4926-84B7-FF1F4A237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288144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545796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30492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288144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545796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760F11-F0FE-48A6-89D8-A3768E838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BD261C-21F5-4260-A4E7-6B7DBD53E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3A5DEA-F853-4EC5-A079-D388B24C8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2CD701-2B34-462F-B7B2-01D9B625E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C550B3-5CDF-40A7-B229-91E6B554A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FAA83E-C62B-4D44-BB57-21D3512EB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651215-486A-4502-9FEC-BCB7B5A2E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E67190-8470-4D87-B60A-AF1AD14FA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4C2EAD-72AC-467C-99FF-06EB94AED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CAFDA4-1258-4E87-BF3C-7AC482FEB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69D444-06C7-4EED-A6E6-E1EE72945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F7E5F0-C0F2-4E96-8976-E815D30AB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88144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45796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92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88144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45796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88144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45796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30492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288144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545796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D0223E-12EF-4927-B5EA-CF4887CD4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7AB141-BE0B-4D7F-AE03-2B95F9800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591449-F6B2-4A7F-964A-C07C0D324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A75881-A3CD-46A8-8E87-A57D663A3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96912A-B743-4EFF-9399-8EA48EF79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AF8434-2FEF-4CFC-B665-F4D948961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C81DB8-8A02-4FF0-A717-D34A2871C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69E63E-1452-415B-8C10-CA4148093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DA374F-8804-4F20-BF40-A1FA0CC75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5358D8-97E9-47D7-9324-1624E7581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A9FA54-5E31-42F5-B25E-E0CD86780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C99955-893E-429F-9BC6-D525CE93E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288144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45796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30492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288144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545796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524164-4B1F-4312-8F9F-AC6EA4685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DE2623-507B-4563-A8EE-96F798024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4BED80-E9A0-41D7-8063-0712ACB68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EF4BD4-0721-4902-821B-756F086F0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DAE1D5-D4B5-4B6F-B08A-18C923730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B7B009-C7B9-496B-B427-F7B651C89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53192A-F143-4B85-9EB1-FE25136A5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BD963B-ADD4-47E2-AC6B-67FA504F5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5FBF5D-F9E1-441A-B2A5-A1B7141B8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C8DE88-F980-4460-B7DF-F7A3F559B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D0810C-EF35-4F09-9BBA-5153A63E3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5BE3C7-C884-49FC-9827-350F455D4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288144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545796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30492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288144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545796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71C7E7-DBFD-4092-A839-814F79EFE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88144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45796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0492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88144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45796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D8FF-6F77-4094-B76C-1D9065011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2E41-D28E-422C-A389-77E76B612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5E04-7A56-4145-B4B7-E57F26EC1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A746-D2BB-4DDC-BFFD-67F8F04C8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6229-F8BB-406B-B474-335FEC8B9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6C70-1456-4C3F-84D7-52735C0D0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159F-FE8E-49B3-94CE-310524ECE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7FC1-3753-455B-AEEF-612104EEC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A26A-43AD-4C2A-829F-9AE25035C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9F77-8987-47F8-A9A0-B2DA4493A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30E0-D012-422B-A2F6-36FB1ACBE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88144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45796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30492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88144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45796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A03D-5F8D-428B-928E-BDCEE1A77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9BA2D-4A70-4579-9E11-A8F32E3A4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5846D-A1DA-47E5-A42D-7A2B3A04B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C1E30-4006-43B9-AC7D-0A5369B5B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064F7-F312-4E50-B215-124E221A8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151BF-BAD8-4133-8F36-9A448AF6D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ED4DD-D03F-4EFD-AAFE-6CA2B67D1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D39BE-227B-4088-9197-9AFD11B1C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23FB8-8F61-481B-8331-EA59B07CD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E1853-42D8-4D50-826D-69D965D9E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070B8-903D-4666-AAB3-1C869C4B1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35332-64A6-4839-951A-59578F16B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288144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45796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30492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288144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45796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5F273-4AA2-452D-8A92-8B50977D3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6BDBA-EC4D-4361-9F08-A7B613DAB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5077C-D24E-48A0-ADD7-740CFC2A6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89B11-8B5E-4678-9389-43093508A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D88E3-ED96-4676-BEBB-184A8D0CF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A1FC9-8380-415A-B431-9197EE2CB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6FEA1-7980-4ED7-B1F5-9D0236494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DB713-83A8-4636-9831-980AA8B43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AEDB9-F5B2-4872-861A-88CAB0787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709C5-B495-4321-89F6-18EDA3B54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F6E28-9DDA-49A6-BA3D-5B797443F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2B853-C67F-42F3-BFA2-FEE442C53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288144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45796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30492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288144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45796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C6DE2-3FC5-4C15-8E7C-C17EBA33F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DF840-D7F4-4CB1-80CD-473DBA39A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1B5FA-5132-4645-8655-5EED1F965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AC48B-9025-472D-9A17-6649B1B01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E0B0D-4DC9-49E1-9843-DA537782D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154FE-7A4C-4E14-AD31-189BAD956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8FF96-6D0F-4D54-915E-A71917EFB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DA7E2-7230-4887-BDB9-E0A4383E9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3C4E5-8FEF-472B-A04B-8BA49D81A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3C2A0-8F25-4059-940B-B548534CD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EEA45F-98A8-49C7-94B5-C9114131D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4B902-6B8D-4B26-985C-53C3573AB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288144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45796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30492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288144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545796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B434F-81AA-4416-BC5D-C56BE9FBE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364567-2908-4701-BBC5-79BD01506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B4B96A-96FE-4EC2-BC5E-FAF03A36D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5C041B-B8EC-4006-B789-207120080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9D6321-5483-4808-A67C-E3A3755D9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B49670-BA92-450A-A5D6-A1C1CB0D9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52E92C-F27A-4A2C-98DF-53198ACC3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B7CD0E-7F92-4F4B-B586-BF56C8E17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05C724-A3D9-4E39-97F3-80DC04A95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1D5CC8-DA19-46E5-A3A7-FF149661F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167649-E66A-422F-B7E4-3199F1659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8862EE-E902-4E9F-9522-4A2374FF1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288144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45796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288144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545796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D62C7D-9F11-43CD-8FAF-B242D60F9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3382EA-49B3-4431-8740-4BC5F3C12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10FB69-C6C1-498C-9842-440F0B16B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669BF2-5F74-4238-856D-CF0A9B931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AFFE36-E796-4866-9509-B48BE0CA6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64FAC5-E855-478E-AD86-639A0F2B9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9DF19D-03A8-482E-8AEB-A43686BB7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42CA2E-5805-407F-86AC-D94085A97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C441F6-6C94-4B63-A0E8-DD449BAAC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513A98-3797-47D2-B18E-B8E034AC5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210D1A-FD4C-4E8B-9B1D-F0B8D60C0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3C7987-CE3A-48FB-8A81-93FA1C321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288144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45796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30492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288144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45796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6DAD63-E21C-4E6C-A0F9-73BCB1962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167F38-5FD4-4AE8-AB47-AECB4087E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866396-6EDC-4561-BFF3-6CBEB25F3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D5FABC-27D9-41FE-A289-DD4D9D24E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Picture 6" descr="tag logo inverse.jpg"/>
          <p:cNvPicPr/>
          <p:nvPr/>
        </p:nvPicPr>
        <p:blipFill>
          <a:blip r:embed="rId2"/>
          <a:stretch/>
        </p:blipFill>
        <p:spPr>
          <a:xfrm>
            <a:off x="8218440" y="1204920"/>
            <a:ext cx="936720" cy="425520"/>
          </a:xfrm>
          <a:prstGeom prst="rect">
            <a:avLst/>
          </a:prstGeom>
          <a:ln w="0">
            <a:noFill/>
          </a:ln>
        </p:spPr>
      </p:pic>
      <p:sp>
        <p:nvSpPr>
          <p:cNvPr id="3" name="Rectangle 8"/>
          <p:cNvSpPr/>
          <p:nvPr/>
        </p:nvSpPr>
        <p:spPr>
          <a:xfrm>
            <a:off x="8218440" y="0"/>
            <a:ext cx="925560" cy="1204920"/>
          </a:xfrm>
          <a:prstGeom prst="rect">
            <a:avLst/>
          </a:prstGeom>
          <a:solidFill>
            <a:srgbClr val="ec7812">
              <a:alpha val="82000"/>
            </a:srgbClr>
          </a:solidFill>
          <a:ln w="0">
            <a:solidFill>
              <a:srgbClr val="93cdd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10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8218440" y="1631880"/>
            <a:ext cx="938160" cy="5227560"/>
          </a:xfrm>
          <a:prstGeom prst="rect">
            <a:avLst/>
          </a:prstGeom>
          <a:solidFill>
            <a:srgbClr val="93156c">
              <a:alpha val="70000"/>
            </a:srgbClr>
          </a:solidFill>
          <a:ln w="0">
            <a:solidFill>
              <a:srgbClr val="c3d69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13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6" descr="tag logo inverse.jpg"/>
          <p:cNvPicPr/>
          <p:nvPr/>
        </p:nvPicPr>
        <p:blipFill>
          <a:blip r:embed="rId2"/>
          <a:stretch/>
        </p:blipFill>
        <p:spPr>
          <a:xfrm>
            <a:off x="8218440" y="1204920"/>
            <a:ext cx="936720" cy="42552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8"/>
          <p:cNvSpPr/>
          <p:nvPr/>
        </p:nvSpPr>
        <p:spPr>
          <a:xfrm>
            <a:off x="8218440" y="0"/>
            <a:ext cx="925560" cy="1204920"/>
          </a:xfrm>
          <a:prstGeom prst="rect">
            <a:avLst/>
          </a:prstGeom>
          <a:solidFill>
            <a:srgbClr val="ec7812">
              <a:alpha val="82000"/>
            </a:srgbClr>
          </a:solidFill>
          <a:ln w="0">
            <a:solidFill>
              <a:srgbClr val="93cdd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traight Connector 10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1"/>
          <p:cNvSpPr/>
          <p:nvPr/>
        </p:nvSpPr>
        <p:spPr>
          <a:xfrm>
            <a:off x="8218440" y="1631880"/>
            <a:ext cx="938160" cy="5227560"/>
          </a:xfrm>
          <a:prstGeom prst="rect">
            <a:avLst/>
          </a:prstGeom>
          <a:solidFill>
            <a:srgbClr val="93156c">
              <a:alpha val="70000"/>
            </a:srgbClr>
          </a:solidFill>
          <a:ln w="0">
            <a:solidFill>
              <a:srgbClr val="c3d69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traight Connector 13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2C5E5E-BD82-4869-85D7-A2CEB4E5B87B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68659C-491F-4065-B87A-5B0DFDAFD3F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Picture 6" descr="tag logo inverse.jpg"/>
          <p:cNvPicPr/>
          <p:nvPr/>
        </p:nvPicPr>
        <p:blipFill>
          <a:blip r:embed="rId2"/>
          <a:stretch/>
        </p:blipFill>
        <p:spPr>
          <a:xfrm>
            <a:off x="8218440" y="1204920"/>
            <a:ext cx="936720" cy="425520"/>
          </a:xfrm>
          <a:prstGeom prst="rect">
            <a:avLst/>
          </a:prstGeom>
          <a:ln w="0">
            <a:noFill/>
          </a:ln>
        </p:spPr>
      </p:pic>
      <p:sp>
        <p:nvSpPr>
          <p:cNvPr id="456" name="Rectangle 8"/>
          <p:cNvSpPr/>
          <p:nvPr/>
        </p:nvSpPr>
        <p:spPr>
          <a:xfrm>
            <a:off x="8218440" y="0"/>
            <a:ext cx="925560" cy="1204920"/>
          </a:xfrm>
          <a:prstGeom prst="rect">
            <a:avLst/>
          </a:prstGeom>
          <a:solidFill>
            <a:srgbClr val="ec7812">
              <a:alpha val="82000"/>
            </a:srgbClr>
          </a:solidFill>
          <a:ln w="0">
            <a:solidFill>
              <a:srgbClr val="93cdd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Straight Connector 10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11"/>
          <p:cNvSpPr/>
          <p:nvPr/>
        </p:nvSpPr>
        <p:spPr>
          <a:xfrm>
            <a:off x="8218440" y="1631880"/>
            <a:ext cx="938160" cy="5227560"/>
          </a:xfrm>
          <a:prstGeom prst="rect">
            <a:avLst/>
          </a:prstGeom>
          <a:solidFill>
            <a:srgbClr val="93156c">
              <a:alpha val="70000"/>
            </a:srgbClr>
          </a:solidFill>
          <a:ln w="0">
            <a:solidFill>
              <a:srgbClr val="c3d69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Straight Connector 13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79EB0C-12B9-4623-8AD2-8D3F8513299B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FE5DF0-F754-4E66-8F35-4E48339C3B3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6" descr="tag logo inverse.jpg"/>
          <p:cNvPicPr/>
          <p:nvPr/>
        </p:nvPicPr>
        <p:blipFill>
          <a:blip r:embed="rId2"/>
          <a:stretch/>
        </p:blipFill>
        <p:spPr>
          <a:xfrm>
            <a:off x="8218440" y="1204920"/>
            <a:ext cx="936720" cy="425520"/>
          </a:xfrm>
          <a:prstGeom prst="rect">
            <a:avLst/>
          </a:prstGeom>
          <a:ln w="0">
            <a:noFill/>
          </a:ln>
        </p:spPr>
      </p:pic>
      <p:sp>
        <p:nvSpPr>
          <p:cNvPr id="502" name="Rectangle 8"/>
          <p:cNvSpPr/>
          <p:nvPr/>
        </p:nvSpPr>
        <p:spPr>
          <a:xfrm>
            <a:off x="8218440" y="0"/>
            <a:ext cx="925560" cy="1204920"/>
          </a:xfrm>
          <a:prstGeom prst="rect">
            <a:avLst/>
          </a:prstGeom>
          <a:solidFill>
            <a:srgbClr val="ec7812">
              <a:alpha val="82000"/>
            </a:srgbClr>
          </a:solidFill>
          <a:ln w="0">
            <a:solidFill>
              <a:srgbClr val="93cdd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traight Connector 10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11"/>
          <p:cNvSpPr/>
          <p:nvPr/>
        </p:nvSpPr>
        <p:spPr>
          <a:xfrm>
            <a:off x="8218440" y="1631880"/>
            <a:ext cx="938160" cy="5227560"/>
          </a:xfrm>
          <a:prstGeom prst="rect">
            <a:avLst/>
          </a:prstGeom>
          <a:solidFill>
            <a:srgbClr val="93156c">
              <a:alpha val="70000"/>
            </a:srgbClr>
          </a:solidFill>
          <a:ln w="0">
            <a:solidFill>
              <a:srgbClr val="c3d69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traight Connector 13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C2F196-02F8-4BF6-A31D-1D780C1AA778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065204-0B63-473A-B279-26C7F68ACEB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tag logo inverse.jpg"/>
          <p:cNvPicPr/>
          <p:nvPr/>
        </p:nvPicPr>
        <p:blipFill>
          <a:blip r:embed="rId2"/>
          <a:stretch/>
        </p:blipFill>
        <p:spPr>
          <a:xfrm>
            <a:off x="8218440" y="1204920"/>
            <a:ext cx="936720" cy="4255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8"/>
          <p:cNvSpPr/>
          <p:nvPr/>
        </p:nvSpPr>
        <p:spPr>
          <a:xfrm>
            <a:off x="8218440" y="0"/>
            <a:ext cx="925560" cy="1204920"/>
          </a:xfrm>
          <a:prstGeom prst="rect">
            <a:avLst/>
          </a:prstGeom>
          <a:solidFill>
            <a:srgbClr val="ec7812">
              <a:alpha val="82000"/>
            </a:srgbClr>
          </a:solidFill>
          <a:ln w="0">
            <a:solidFill>
              <a:srgbClr val="93cdd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traight Connector 10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8218440" y="1631880"/>
            <a:ext cx="938160" cy="5227560"/>
          </a:xfrm>
          <a:prstGeom prst="rect">
            <a:avLst/>
          </a:prstGeom>
          <a:solidFill>
            <a:srgbClr val="93156c">
              <a:alpha val="70000"/>
            </a:srgbClr>
          </a:solidFill>
          <a:ln w="0">
            <a:solidFill>
              <a:srgbClr val="c3d69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traight Connector 13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cover.jpg"/>
          <p:cNvPicPr/>
          <p:nvPr/>
        </p:nvPicPr>
        <p:blipFill>
          <a:blip r:embed="rId3"/>
          <a:stretch/>
        </p:blipFill>
        <p:spPr>
          <a:xfrm>
            <a:off x="1922400" y="457200"/>
            <a:ext cx="4592880" cy="5943600"/>
          </a:xfrm>
          <a:prstGeom prst="rect">
            <a:avLst/>
          </a:prstGeom>
          <a:ln w="9360">
            <a:solidFill>
              <a:srgbClr val="595959"/>
            </a:solidFill>
            <a:miter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6" descr="tag logo inverse.jpg"/>
          <p:cNvPicPr/>
          <p:nvPr/>
        </p:nvPicPr>
        <p:blipFill>
          <a:blip r:embed="rId2"/>
          <a:stretch/>
        </p:blipFill>
        <p:spPr>
          <a:xfrm>
            <a:off x="8218440" y="1204920"/>
            <a:ext cx="936720" cy="42552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8"/>
          <p:cNvSpPr/>
          <p:nvPr/>
        </p:nvSpPr>
        <p:spPr>
          <a:xfrm>
            <a:off x="8218440" y="0"/>
            <a:ext cx="925560" cy="1204920"/>
          </a:xfrm>
          <a:prstGeom prst="rect">
            <a:avLst/>
          </a:prstGeom>
          <a:solidFill>
            <a:srgbClr val="ec7812">
              <a:alpha val="82000"/>
            </a:srgbClr>
          </a:solidFill>
          <a:ln w="0">
            <a:solidFill>
              <a:srgbClr val="93cdd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10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8218440" y="1631880"/>
            <a:ext cx="938160" cy="5227560"/>
          </a:xfrm>
          <a:prstGeom prst="rect">
            <a:avLst/>
          </a:prstGeom>
          <a:solidFill>
            <a:srgbClr val="93156c">
              <a:alpha val="70000"/>
            </a:srgbClr>
          </a:solidFill>
          <a:ln w="0">
            <a:solidFill>
              <a:srgbClr val="c3d69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traight Connector 13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DD0ED8-CE25-424E-B34A-315D28611463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8D14CE-8765-4796-A128-2A36D2F2CB3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6" descr="tag logo inverse.jpg"/>
          <p:cNvPicPr/>
          <p:nvPr/>
        </p:nvPicPr>
        <p:blipFill>
          <a:blip r:embed="rId2"/>
          <a:stretch/>
        </p:blipFill>
        <p:spPr>
          <a:xfrm>
            <a:off x="8218440" y="1204920"/>
            <a:ext cx="936720" cy="42552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8"/>
          <p:cNvSpPr/>
          <p:nvPr/>
        </p:nvSpPr>
        <p:spPr>
          <a:xfrm>
            <a:off x="8218440" y="0"/>
            <a:ext cx="925560" cy="1204920"/>
          </a:xfrm>
          <a:prstGeom prst="rect">
            <a:avLst/>
          </a:prstGeom>
          <a:solidFill>
            <a:srgbClr val="ec7812">
              <a:alpha val="82000"/>
            </a:srgbClr>
          </a:solidFill>
          <a:ln w="0">
            <a:solidFill>
              <a:srgbClr val="93cdd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traight Connector 10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1"/>
          <p:cNvSpPr/>
          <p:nvPr/>
        </p:nvSpPr>
        <p:spPr>
          <a:xfrm>
            <a:off x="8218440" y="1631880"/>
            <a:ext cx="938160" cy="5227560"/>
          </a:xfrm>
          <a:prstGeom prst="rect">
            <a:avLst/>
          </a:prstGeom>
          <a:solidFill>
            <a:srgbClr val="93156c">
              <a:alpha val="70000"/>
            </a:srgbClr>
          </a:solidFill>
          <a:ln w="0">
            <a:solidFill>
              <a:srgbClr val="c3d69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traight Connector 13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A6AF17-2D75-4C3C-81DC-B8A1490C4DAC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B87209-DE7E-4F41-95FA-A8D874317D0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6" descr="tag logo inverse.jpg"/>
          <p:cNvPicPr/>
          <p:nvPr/>
        </p:nvPicPr>
        <p:blipFill>
          <a:blip r:embed="rId2"/>
          <a:stretch/>
        </p:blipFill>
        <p:spPr>
          <a:xfrm>
            <a:off x="8218440" y="1204920"/>
            <a:ext cx="936720" cy="42552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8"/>
          <p:cNvSpPr/>
          <p:nvPr/>
        </p:nvSpPr>
        <p:spPr>
          <a:xfrm>
            <a:off x="8218440" y="0"/>
            <a:ext cx="925560" cy="1204920"/>
          </a:xfrm>
          <a:prstGeom prst="rect">
            <a:avLst/>
          </a:prstGeom>
          <a:solidFill>
            <a:srgbClr val="ec7812">
              <a:alpha val="82000"/>
            </a:srgbClr>
          </a:solidFill>
          <a:ln w="0">
            <a:solidFill>
              <a:srgbClr val="93cdd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traight Connector 10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1"/>
          <p:cNvSpPr/>
          <p:nvPr/>
        </p:nvSpPr>
        <p:spPr>
          <a:xfrm>
            <a:off x="8218440" y="1631880"/>
            <a:ext cx="938160" cy="5227560"/>
          </a:xfrm>
          <a:prstGeom prst="rect">
            <a:avLst/>
          </a:prstGeom>
          <a:solidFill>
            <a:srgbClr val="93156c">
              <a:alpha val="70000"/>
            </a:srgbClr>
          </a:solidFill>
          <a:ln w="0">
            <a:solidFill>
              <a:srgbClr val="c3d69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traight Connector 13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1A34A5-D1D7-43F4-B533-0ACA101A59BD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DBB166-8CCA-4139-ABD1-2F53113B2E3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6" descr="tag logo inverse.jpg"/>
          <p:cNvPicPr/>
          <p:nvPr/>
        </p:nvPicPr>
        <p:blipFill>
          <a:blip r:embed="rId2"/>
          <a:stretch/>
        </p:blipFill>
        <p:spPr>
          <a:xfrm>
            <a:off x="8218440" y="1204920"/>
            <a:ext cx="936720" cy="42552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8"/>
          <p:cNvSpPr/>
          <p:nvPr/>
        </p:nvSpPr>
        <p:spPr>
          <a:xfrm>
            <a:off x="8218440" y="0"/>
            <a:ext cx="925560" cy="1204920"/>
          </a:xfrm>
          <a:prstGeom prst="rect">
            <a:avLst/>
          </a:prstGeom>
          <a:solidFill>
            <a:srgbClr val="ec7812">
              <a:alpha val="82000"/>
            </a:srgbClr>
          </a:solidFill>
          <a:ln w="0">
            <a:solidFill>
              <a:srgbClr val="93cdd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traight Connector 10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1"/>
          <p:cNvSpPr/>
          <p:nvPr/>
        </p:nvSpPr>
        <p:spPr>
          <a:xfrm>
            <a:off x="8218440" y="1631880"/>
            <a:ext cx="938160" cy="5227560"/>
          </a:xfrm>
          <a:prstGeom prst="rect">
            <a:avLst/>
          </a:prstGeom>
          <a:solidFill>
            <a:srgbClr val="93156c">
              <a:alpha val="70000"/>
            </a:srgbClr>
          </a:solidFill>
          <a:ln w="0">
            <a:solidFill>
              <a:srgbClr val="c3d69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traight Connector 13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0B4BB1-AE5C-4BAA-AA4B-DE04922E4C47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075B9F-64FF-47CF-8720-DD313BEF2F1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6" descr="tag logo inverse.jpg"/>
          <p:cNvPicPr/>
          <p:nvPr/>
        </p:nvPicPr>
        <p:blipFill>
          <a:blip r:embed="rId2"/>
          <a:stretch/>
        </p:blipFill>
        <p:spPr>
          <a:xfrm>
            <a:off x="8218440" y="1204920"/>
            <a:ext cx="936720" cy="42552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8"/>
          <p:cNvSpPr/>
          <p:nvPr/>
        </p:nvSpPr>
        <p:spPr>
          <a:xfrm>
            <a:off x="8218440" y="0"/>
            <a:ext cx="925560" cy="1204920"/>
          </a:xfrm>
          <a:prstGeom prst="rect">
            <a:avLst/>
          </a:prstGeom>
          <a:solidFill>
            <a:srgbClr val="ec7812">
              <a:alpha val="82000"/>
            </a:srgbClr>
          </a:solidFill>
          <a:ln w="0">
            <a:solidFill>
              <a:srgbClr val="93cdd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traight Connector 10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1"/>
          <p:cNvSpPr/>
          <p:nvPr/>
        </p:nvSpPr>
        <p:spPr>
          <a:xfrm>
            <a:off x="8218440" y="1631880"/>
            <a:ext cx="938160" cy="5227560"/>
          </a:xfrm>
          <a:prstGeom prst="rect">
            <a:avLst/>
          </a:prstGeom>
          <a:solidFill>
            <a:srgbClr val="93156c">
              <a:alpha val="70000"/>
            </a:srgbClr>
          </a:solidFill>
          <a:ln w="0">
            <a:solidFill>
              <a:srgbClr val="c3d69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traight Connector 13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C9E0B2-C94D-44EA-9ACB-A901335F1B91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AE9883-F7E8-44AF-A091-EA0C26DA88C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6" descr="tag logo inverse.jpg"/>
          <p:cNvPicPr/>
          <p:nvPr/>
        </p:nvPicPr>
        <p:blipFill>
          <a:blip r:embed="rId2"/>
          <a:stretch/>
        </p:blipFill>
        <p:spPr>
          <a:xfrm>
            <a:off x="8218440" y="1204920"/>
            <a:ext cx="936720" cy="425520"/>
          </a:xfrm>
          <a:prstGeom prst="rect">
            <a:avLst/>
          </a:prstGeom>
          <a:ln w="0">
            <a:noFill/>
          </a:ln>
        </p:spPr>
      </p:pic>
      <p:sp>
        <p:nvSpPr>
          <p:cNvPr id="318" name="Rectangle 8"/>
          <p:cNvSpPr/>
          <p:nvPr/>
        </p:nvSpPr>
        <p:spPr>
          <a:xfrm>
            <a:off x="8218440" y="0"/>
            <a:ext cx="925560" cy="1204920"/>
          </a:xfrm>
          <a:prstGeom prst="rect">
            <a:avLst/>
          </a:prstGeom>
          <a:solidFill>
            <a:srgbClr val="ec7812">
              <a:alpha val="82000"/>
            </a:srgbClr>
          </a:solidFill>
          <a:ln w="0">
            <a:solidFill>
              <a:srgbClr val="93cdd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traight Connector 10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1"/>
          <p:cNvSpPr/>
          <p:nvPr/>
        </p:nvSpPr>
        <p:spPr>
          <a:xfrm>
            <a:off x="8218440" y="1631880"/>
            <a:ext cx="938160" cy="5227560"/>
          </a:xfrm>
          <a:prstGeom prst="rect">
            <a:avLst/>
          </a:prstGeom>
          <a:solidFill>
            <a:srgbClr val="93156c">
              <a:alpha val="70000"/>
            </a:srgbClr>
          </a:solidFill>
          <a:ln w="0">
            <a:solidFill>
              <a:srgbClr val="c3d69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traight Connector 13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C7A235-1036-4880-9A9B-4C4F5E0877B7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77AA29-1484-4951-A0A4-6A66CD0B7FA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6" descr="tag logo inverse.jpg"/>
          <p:cNvPicPr/>
          <p:nvPr/>
        </p:nvPicPr>
        <p:blipFill>
          <a:blip r:embed="rId2"/>
          <a:stretch/>
        </p:blipFill>
        <p:spPr>
          <a:xfrm>
            <a:off x="8218440" y="1204920"/>
            <a:ext cx="936720" cy="425520"/>
          </a:xfrm>
          <a:prstGeom prst="rect">
            <a:avLst/>
          </a:prstGeom>
          <a:ln w="0">
            <a:noFill/>
          </a:ln>
        </p:spPr>
      </p:pic>
      <p:sp>
        <p:nvSpPr>
          <p:cNvPr id="364" name="Rectangle 8"/>
          <p:cNvSpPr/>
          <p:nvPr/>
        </p:nvSpPr>
        <p:spPr>
          <a:xfrm>
            <a:off x="8218440" y="0"/>
            <a:ext cx="925560" cy="1204920"/>
          </a:xfrm>
          <a:prstGeom prst="rect">
            <a:avLst/>
          </a:prstGeom>
          <a:solidFill>
            <a:srgbClr val="ec7812">
              <a:alpha val="82000"/>
            </a:srgbClr>
          </a:solidFill>
          <a:ln w="0">
            <a:solidFill>
              <a:srgbClr val="93cdd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traight Connector 10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8218440" y="1631880"/>
            <a:ext cx="938160" cy="5227560"/>
          </a:xfrm>
          <a:prstGeom prst="rect">
            <a:avLst/>
          </a:prstGeom>
          <a:solidFill>
            <a:srgbClr val="93156c">
              <a:alpha val="70000"/>
            </a:srgbClr>
          </a:solidFill>
          <a:ln w="0">
            <a:solidFill>
              <a:srgbClr val="c3d69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Straight Connector 13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663850-2AD9-4651-AF38-F4B246158737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D8A42D-D3A3-404B-8DB8-0201B6DA518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Stages of Liver Damage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spcAft>
                <a:spcPts val="2401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iver failure, also called </a:t>
            </a: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decompensated cirrhosi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or </a:t>
            </a: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end-stage liver diseas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(ESLD), means that the liver can no longer do its job, and that a liver transplant is necessary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spcAft>
                <a:spcPts val="2401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iver cancer, also called </a:t>
            </a: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hepatocellular carcinoma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(HCC), is very seriou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1199"/>
              </a:spcAft>
              <a:buClr>
                <a:srgbClr val="ec7812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 is very difficult to treat, especially if it is not caught ear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1199"/>
              </a:spcAft>
              <a:buClr>
                <a:srgbClr val="ec7812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though there is not a standard test for liver cancer, doctors use a combination of tests to screen for liver canc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1199"/>
              </a:spcAft>
              <a:buClr>
                <a:srgbClr val="ec7812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earchers are working to develop better methods for early detection of liver cance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Preventing Liver Disease 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venting development or progression of liver disease by getting rid of HCV is the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primary goal of HCV treat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is important for people to find out if they have HCV, because treatment doesn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 work as well in people who already have cirrho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ople with cirrhosis remain at risk for liver cancer even after they have been cured of HCV, and should be screened regularl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Alcohol: Harmful to the Liver 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75"/>
              </a:spcBef>
              <a:spcAft>
                <a:spcPts val="3600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Alcohol is hard for the liver to break down, even in people who don</a:t>
            </a:r>
            <a:r>
              <a:rPr b="0" lang="ja-JP" sz="23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 have hepatitis C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75"/>
              </a:spcBef>
              <a:spcAft>
                <a:spcPts val="3600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In people with HCV, alcohol hurts the liver by increasing inflammation and scarring, which leads to cirrhosis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75"/>
              </a:spcBef>
              <a:spcAft>
                <a:spcPts val="3600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Heavy drinking increases the risk for cirrhosis in people with all types of viral hepatitis, including HCV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75"/>
              </a:spcBef>
              <a:spcAft>
                <a:spcPts val="29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Even though experts have not agreed on a safe amount of alcohol, many recommend complete abstinence from alcohol, or limiting it to a small amount on special occasions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Alcohol: Harmful to the Liver 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ctors do agree that the less a person with hepatitis drinks, the bet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me studies found tha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men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who drink 50 grams of alcohol (</a:t>
            </a:r>
            <a:r>
              <a:rPr b="1" lang="en-US" sz="1600" spc="-1" strike="noStrike">
                <a:solidFill>
                  <a:srgbClr val="ff0000"/>
                </a:solidFill>
                <a:latin typeface="Calibri"/>
              </a:rPr>
              <a:t>4 to 5 servings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f mixed drinks, shots, glasses of wine, or small bottles of beer) a day or more, and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women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who drink 30 grams of alcohol (</a:t>
            </a:r>
            <a:r>
              <a:rPr b="1" lang="en-US" sz="1600" spc="-1" strike="noStrike">
                <a:solidFill>
                  <a:srgbClr val="ff0000"/>
                </a:solidFill>
                <a:latin typeface="Calibri"/>
              </a:rPr>
              <a:t>2 to 3 serving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) a day or mo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re at higher risk for liver damage than people who drink less or not at al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Quitting or cutting down on drinking can be very difficult, but drinking less—or not at all—may be the most important thing a person with hepatitis C can do to prevent liver damag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Street Drugs 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eople who regularly use heroin, cocaine, and crystal methamphetamine may not be getting enough sleep or eating well, and may be under a great deal of stres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eople who don</a:t>
            </a:r>
            <a:r>
              <a:rPr b="0" lang="ja-JP" sz="2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 have access to clean injection equipment are at risk for infections such as HIV, HBV, and HCV (including reinfection after being cured of the viru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r these reasons, using street drugs (</a:t>
            </a: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illicit drug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—especially on a daily basis—can have a negative overall impact on a person</a:t>
            </a:r>
            <a:r>
              <a:rPr b="0" lang="ja-JP" sz="2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 healt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owever, there is not enough information to say whether or not street drugs actually cause or worsen liver damage in people with chronic hepatiti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Street Drugs and the Liver 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re is very little research or information on whether or not street drugs cause liver damage in people with chronic hepatit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st research on street drugs has been done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in vitro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in a test tube), not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in viv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in the human body). What happens inside the human body is often very different from what happens in a test tube, so it is hard to know how the results from an in vitro study relate to what actually happens in a person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 bod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purity of street drugs varies. The other substances that are added to street drugs may be harmful to the liver, although the drug itself may not b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s makes it more difficult to know the impact of street drug use on chronic hepatiti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Street Drugs and the Liver 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2401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me researchers have found that daily marijuana use (one joint or more per day over several years) can cause fibrosis faster in people with chronic HC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spcAft>
                <a:spcPts val="2401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ut other studies have not reported a link between liver scarring and marijuana 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spcAft>
                <a:spcPts val="2401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ccasional use of marijuana has not been found to be harmfu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spcAft>
                <a:spcPts val="2401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fact, one study found that smoking marijuana during HCV treatment helped people to deal with side effects and complete their treatmen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Prescription Drug Use 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me people use prescription drugs to get hig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s can be risky because they may interact with other medications, causing lowered or increased drug levels in a person</a:t>
            </a:r>
            <a:r>
              <a:rPr b="0" lang="ja-JP" sz="2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 bod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f drug levels are too low, medications may stop work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 some cases—such as with HIV medications and antibiotics—drug resistance can develop because there is not enough drug in a person</a:t>
            </a:r>
            <a:r>
              <a:rPr b="0" lang="ja-JP" sz="2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 system to stop viruses and bacteria from reproduc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rug levels that are too high can also be dangerous, since they can increase drug toxicity and side effects, or cause an overdo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Prescription Drug Use 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or example, benzodiazepines such as midazolam interact wit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spcAft>
                <a:spcPts val="601"/>
              </a:spcAft>
              <a:buClr>
                <a:srgbClr val="ec7812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alcoho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spcAft>
                <a:spcPts val="601"/>
              </a:spcAft>
              <a:buClr>
                <a:srgbClr val="ec7812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affein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spcAft>
                <a:spcPts val="601"/>
              </a:spcAft>
              <a:buClr>
                <a:srgbClr val="ec7812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leeping pill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spcAft>
                <a:spcPts val="601"/>
              </a:spcAft>
              <a:buClr>
                <a:srgbClr val="ec7812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ome antidepressants and antianxiety drug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spcAft>
                <a:spcPts val="601"/>
              </a:spcAft>
              <a:buClr>
                <a:srgbClr val="ec7812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ome antibiotic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spcAft>
                <a:spcPts val="601"/>
              </a:spcAft>
              <a:buClr>
                <a:srgbClr val="ec7812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hormonal contraception (birth control pills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spcAft>
                <a:spcPts val="601"/>
              </a:spcAft>
              <a:buClr>
                <a:srgbClr val="ec7812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ome of the drugs used to treat TB, fungal infections, high blood pressure, and heart problem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spcAft>
                <a:spcPts val="601"/>
              </a:spcAft>
              <a:buClr>
                <a:srgbClr val="ec7812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and even cold medications (among others)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Drug Overdose 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spcAft>
                <a:spcPts val="2401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risk of overdosing on antianxiety and pain medications may be higher in people with hepatitis-induced cirrhosis, since they are broken down by the liv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spcAft>
                <a:spcPts val="2401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clude benzodiazepines, opioids, and anesthetics (alprazolam, diazepam, midazolam, triazolam, fentanyl, and lidocaine)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SECTION 2: ABOUT THE LIVER 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spcAft>
                <a:spcPts val="1800"/>
              </a:spcAft>
              <a:buClr>
                <a:srgbClr val="ec7812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liver is an organ in the body that has many critical func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spcAft>
                <a:spcPts val="1800"/>
              </a:spcAft>
              <a:buClr>
                <a:srgbClr val="ec7812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the liver becomes very damaged (such as by chronic viral hepatitis), it cannot work properl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spcAft>
                <a:spcPts val="1800"/>
              </a:spcAft>
              <a:buClr>
                <a:srgbClr val="ec7812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rious liver scarring is called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cirrhosi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spcAft>
                <a:spcPts val="1800"/>
              </a:spcAft>
              <a:buClr>
                <a:srgbClr val="ec7812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irrhosis can lead to life-threatening complications such as liver cancer and liver failur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Other Drugs 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me antibiotics, traditional medicines, herbs, and food supplements can be hard on the liv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me medications should not be taken at the same time as certain HCV drugs or will need to have their doses adjus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is very important that your health care provider and pharmacist know about all of the medications and supplements you are taking, with or without a prescription, to help prevent serious drug interaction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93156c"/>
                </a:solidFill>
                <a:latin typeface="Calibri"/>
              </a:rPr>
              <a:t>ADVOCACY EXERCISE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baseline="30000">
                <a:solidFill>
                  <a:srgbClr val="000000"/>
                </a:solidFill>
                <a:latin typeface="Calibri"/>
              </a:rPr>
              <a:t>Discussion Questio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Do you know someone who has died from liver cancer? Can serious illness and deaths from liver disease be prevente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In places where HCV treatment is not available, what can people do to improve their liver health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baseline="30000">
                <a:solidFill>
                  <a:srgbClr val="000000"/>
                </a:solidFill>
                <a:latin typeface="Calibri"/>
              </a:rPr>
              <a:t>Action Step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Do you know where people in your community can get testing and treatment for liver disease? If not, how can you find out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Where can people find support and harm reduction services if they want to stop or decrease alcohol or drug us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3156c"/>
                </a:solidFill>
                <a:latin typeface="Calibri"/>
              </a:rPr>
              <a:t>The Liver Performs Many Important Functions</a:t>
            </a:r>
            <a:endParaRPr b="0" lang="en-US" sz="3600" spc="-1" strike="noStrike">
              <a:solidFill>
                <a:srgbClr val="93156c"/>
              </a:solidFill>
              <a:latin typeface="Calibri"/>
            </a:endParaRPr>
          </a:p>
        </p:txBody>
      </p:sp>
      <p:pic>
        <p:nvPicPr>
          <p:cNvPr id="557" name="Picture 3" descr="liverdiagram.tif"/>
          <p:cNvPicPr/>
          <p:nvPr/>
        </p:nvPicPr>
        <p:blipFill>
          <a:blip r:embed="rId1"/>
          <a:stretch/>
        </p:blipFill>
        <p:spPr>
          <a:xfrm>
            <a:off x="457200" y="1828800"/>
            <a:ext cx="2286000" cy="4363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 txBox="1"/>
          <p:nvPr/>
        </p:nvSpPr>
        <p:spPr>
          <a:xfrm>
            <a:off x="3048120" y="1828440"/>
            <a:ext cx="4876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spcAft>
                <a:spcPts val="2401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biggest organ inside the human bod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spcAft>
                <a:spcPts val="2401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n the right side, underneath the rib cag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spcAft>
                <a:spcPts val="2401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orks as a filter and processing pla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spcAft>
                <a:spcPts val="2401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nything you eat, drink, and inhale passes through the liv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spcAft>
                <a:spcPts val="2401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lso breaks down herbal remedies, vitamins, and drug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Each day, your liver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spcAft>
                <a:spcPts val="1199"/>
              </a:spcAft>
              <a:buClr>
                <a:srgbClr val="ec7812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lters waste from the blood;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spcAft>
                <a:spcPts val="1199"/>
              </a:spcAft>
              <a:buClr>
                <a:srgbClr val="ec7812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ores vitamins, minerals, and iron;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spcAft>
                <a:spcPts val="1199"/>
              </a:spcAft>
              <a:buClr>
                <a:srgbClr val="ec7812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anges food into energy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spcAft>
                <a:spcPts val="1199"/>
              </a:spcAft>
              <a:buClr>
                <a:srgbClr val="ec7812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kes bile (a liquid that your body uses to digest fat);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spcAft>
                <a:spcPts val="1199"/>
              </a:spcAft>
              <a:buClr>
                <a:srgbClr val="ec7812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lps balance sugar and hormone levels;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spcAft>
                <a:spcPts val="1199"/>
              </a:spcAft>
              <a:buClr>
                <a:srgbClr val="ec7812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kes cholesterol; and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spcAft>
                <a:spcPts val="1199"/>
              </a:spcAft>
              <a:buClr>
                <a:srgbClr val="ec7812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eates the hormone that helps to produce platelets, which stop bleeding by clotting bloo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3156c"/>
                </a:solidFill>
                <a:latin typeface="Calibri"/>
              </a:rPr>
              <a:t>Immune Response to Viral Hepatitis Infection Causes Liver Damage </a:t>
            </a:r>
            <a:endParaRPr b="0" lang="en-US" sz="36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spcAft>
                <a:spcPts val="2401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e immune system tries to get rid of infected liver cells by surrounding them and walling them off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spcAft>
                <a:spcPts val="2401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Over time, this creates scarring in the liver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spcAft>
                <a:spcPts val="2401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lthough the liver grows new cells, cells that are already scarred cannot become unscarre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spcAft>
                <a:spcPts val="2401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s the scarring worsens, the liver hardens, making it more difficult for blood and other important fluids to pass through i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spcAft>
                <a:spcPts val="2401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ese fluids, which are usually filtered by the liver, can build up to toxic levels in the bloodstream when the liver is too damaged to function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3156c"/>
                </a:solidFill>
                <a:latin typeface="Calibri"/>
              </a:rPr>
              <a:t>Liver Damage from HCV Happens Slowly, Usually over Decades</a:t>
            </a:r>
            <a:endParaRPr b="0" lang="en-US" sz="36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spcAft>
                <a:spcPts val="1800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t can take from 15 to 50 years for an HIV-negative person who has chronic hepatitis C to develop cirrhos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spcAft>
                <a:spcPts val="1800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aving chronic HCV does not always mean that you will have serious liver damage, or that you need treat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spcAft>
                <a:spcPts val="1800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ome people live with hepatitis C for many years and will never have liver damag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3156c"/>
                </a:solidFill>
                <a:latin typeface="Calibri"/>
              </a:rPr>
              <a:t>Some Things Cause Faster Liver Damage from Viral Hepatitis </a:t>
            </a:r>
            <a:endParaRPr b="0" lang="en-US" sz="36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Being HIV-positive—especially if you got HCV after getting HIV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Being coinfected with HBV and HCV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rinking alcohol, especially heavil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ge over 40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Having fat in your liver (a condition called </a:t>
            </a:r>
            <a:r>
              <a:rPr b="1" i="1" lang="en-US" sz="2100" spc="-1" strike="noStrike">
                <a:solidFill>
                  <a:srgbClr val="000000"/>
                </a:solidFill>
                <a:latin typeface="Calibri"/>
              </a:rPr>
              <a:t>steatosi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), usually in overweight people, heavy drinkers, or people with metabolic disorder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Being male (but researchers don</a:t>
            </a:r>
            <a:r>
              <a:rPr b="0" lang="ja-JP" sz="21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 understand why)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e amount of time you have had hepatitis C—the longer you</a:t>
            </a:r>
            <a:r>
              <a:rPr b="0" lang="ja-JP" sz="21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e been infected, the more likely you are to develop liver damage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Stages of Liver Damage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pic>
        <p:nvPicPr>
          <p:cNvPr id="568" name="Picture 3" descr="liver 1asm.jpg"/>
          <p:cNvPicPr/>
          <p:nvPr/>
        </p:nvPicPr>
        <p:blipFill>
          <a:blip r:embed="rId1"/>
          <a:stretch/>
        </p:blipFill>
        <p:spPr>
          <a:xfrm>
            <a:off x="533520" y="16002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4" descr="liver 1b SM.jpg"/>
          <p:cNvPicPr/>
          <p:nvPr/>
        </p:nvPicPr>
        <p:blipFill>
          <a:blip r:embed="rId2"/>
          <a:stretch/>
        </p:blipFill>
        <p:spPr>
          <a:xfrm>
            <a:off x="3200400" y="16002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5" descr="liver1csm.jpg"/>
          <p:cNvPicPr/>
          <p:nvPr/>
        </p:nvPicPr>
        <p:blipFill>
          <a:blip r:embed="rId3"/>
          <a:stretch/>
        </p:blipFill>
        <p:spPr>
          <a:xfrm>
            <a:off x="5791320" y="16002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6" descr="liver1dsm.jpg"/>
          <p:cNvPicPr/>
          <p:nvPr/>
        </p:nvPicPr>
        <p:blipFill>
          <a:blip r:embed="rId4"/>
          <a:stretch/>
        </p:blipFill>
        <p:spPr>
          <a:xfrm>
            <a:off x="1828800" y="37339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7" descr="liver1esm.jpg"/>
          <p:cNvPicPr/>
          <p:nvPr/>
        </p:nvPicPr>
        <p:blipFill>
          <a:blip r:embed="rId5"/>
          <a:stretch/>
        </p:blipFill>
        <p:spPr>
          <a:xfrm>
            <a:off x="4724280" y="380988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573" name="TextBox 8"/>
          <p:cNvSpPr/>
          <p:nvPr/>
        </p:nvSpPr>
        <p:spPr>
          <a:xfrm>
            <a:off x="685800" y="34290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 Fibrosis (F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Box 14"/>
          <p:cNvSpPr/>
          <p:nvPr/>
        </p:nvSpPr>
        <p:spPr>
          <a:xfrm>
            <a:off x="3209760" y="3429000"/>
            <a:ext cx="17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ld Fibrosis (F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Box 15"/>
          <p:cNvSpPr/>
          <p:nvPr/>
        </p:nvSpPr>
        <p:spPr>
          <a:xfrm>
            <a:off x="5426280" y="3429000"/>
            <a:ext cx="281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ld–Moderate Fibrosis (F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Box 16"/>
          <p:cNvSpPr/>
          <p:nvPr/>
        </p:nvSpPr>
        <p:spPr>
          <a:xfrm>
            <a:off x="1158120" y="5562720"/>
            <a:ext cx="30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erate–Severe Fibrosis (F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Box 17"/>
          <p:cNvSpPr/>
          <p:nvPr/>
        </p:nvSpPr>
        <p:spPr>
          <a:xfrm>
            <a:off x="4996440" y="5638680"/>
            <a:ext cx="13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irrhosis (F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Box 18"/>
          <p:cNvSpPr/>
          <p:nvPr/>
        </p:nvSpPr>
        <p:spPr>
          <a:xfrm>
            <a:off x="533520" y="6172200"/>
            <a:ext cx="6972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ource: Faria SC, Ganesan K, Mwangi I, et al. MR imaging of liver fibrosis: current state of the art. Radiographics. 2009;29:1615–35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Stages of Liver Damage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spcAft>
                <a:spcPts val="2401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me people develop mild liver scarring, called </a:t>
            </a: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fibrosi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spcAft>
                <a:spcPts val="2401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aving HCV and being overweight can cause fat to build up in the liver, a condition called </a:t>
            </a: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steatosi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spcAft>
                <a:spcPts val="24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ople with steatosis are at higher risk for liver dam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spcAft>
                <a:spcPts val="2401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Compensated cirrhosis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ans the liver is still able to function even though it is scarre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spcAft>
                <a:spcPts val="24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ople with compensated cirrhosis are at risk for liver failure, liver cancer, and other serious complication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17:22:50Z</dcterms:created>
  <dc:creator>Lei Chou</dc:creator>
  <dc:description/>
  <dc:language>en-US</dc:language>
  <cp:lastModifiedBy>Andrea Benzacar</cp:lastModifiedBy>
  <dcterms:modified xsi:type="dcterms:W3CDTF">2013-11-05T17:02:30Z</dcterms:modified>
  <cp:revision>44</cp:revision>
  <dc:subject/>
  <dc:title>Slide 1</dc:title>
</cp:coreProperties>
</file>