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5CBC1-9B04-460F-85FD-FAD57606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94329-BCA9-4929-8062-9B2DE29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D7DD5-4A91-4D44-BD78-51F70BCA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2A7FD-947C-41AA-A756-E6F49540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FA7B-18DE-4409-B58C-B167AC4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45943-E459-41A8-A635-F14F0FD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F42E6-B6B1-4CAE-8AFE-B1A53ECF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55555-4900-474A-90F4-8DDFB991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89451-81A0-47F0-BF68-F76BA552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8FFE4-A541-47DA-AE43-31DAD642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91660-74C8-46ED-A8A9-B453841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8119E-A9B6-448D-A6F1-A86B5260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26D30-DD94-4F9E-9523-ACB68323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9DB22-DBF7-41C9-B414-E3923353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54832-5AF2-43F1-853A-BE7FFE6D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93878-D2FE-4BEC-AEE6-ED1957D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D8421-E1CB-4A9E-A2FF-5F6ACE1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F1268-34DE-4B3B-A757-9A4A44D1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828FC-1D15-491F-8016-A39DD41C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6634C-30E0-411B-907D-D3C8E698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C4F42-C540-4FFE-9677-D58B7E0D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D2E7B-95F8-441C-9E66-5F5F24F5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033C3-57A6-4DD1-B4FB-FBC2D785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54A28-7B26-45BD-8133-E793445D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87390-94EE-45F3-BBA3-04C66BC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F90C4-68EB-4D0C-B022-1C3A46AA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D2318-9FAE-43B2-B29B-876E2C7F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077DC-F393-4B9C-BB68-C82BFB49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8C6CC-B9AF-4B87-8689-24F0CA8E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6FF1F-2AEA-4FC0-BA0D-B2916C51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C8EC1-2568-45CE-BC26-144DB2B2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1F28F-14D4-40FD-9859-A36F9041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C8DB8-7852-4D94-B229-04CF7268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AA094-82DE-409A-A040-D5F73D9E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2540C-543E-4A44-B3FD-E9E26CB9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E2603-E6FB-4273-967A-17C38573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8D136-EAD1-4D50-967C-C49BDB92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A8DF3-EE77-40D9-9E64-DD8EAFB1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56F5F-5551-42CD-BA16-ACF8508A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D7199-2EAE-41E9-969E-25824419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536E2-F225-4C64-B275-B87ABB4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931A0-3C86-4C6F-8C86-F4FC6318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24FCF-81FC-4D27-A09E-4D60A973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1B529-2856-4D7E-8F7F-90531F95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1F13D-9BEB-40F0-A397-4A8370C3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C1F-1E2A-449F-9E22-FD5E315D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AC7-92A7-4D83-B2D2-646BA17F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AC8-1B47-4C5D-8AC7-C675DCA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74F-9B1D-4D56-B0B8-2B8B43AB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AC9-8422-4691-9D18-833C4FE8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01F-C238-4D4E-A5BD-04684470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94E-1393-4511-9AC9-8C83863A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514-DE34-438B-8A8A-A386C26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7CC-47EC-4478-9BBD-91E92D24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852-CB23-4284-880B-BA8C04BC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55D-6764-4480-95F9-1C80ED68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C48-2CD3-4A86-B309-4D9151DB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C6FB-A312-4561-8BAC-22D4085D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4499-8A65-4914-8A9E-0DA47219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F27F-E2BE-4432-8D3F-E786259F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3075-2B9F-4364-BD9A-C8428E8D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A5BF-53B9-446C-A3BB-F44AB6DE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7B4D-CB16-49EA-8FB8-EF04E776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D1FC-FC5D-405E-AD16-B8475FF4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27A3-32C8-42AF-9F31-4C145BF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08A-4990-4C46-8402-DF483189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7666-06E8-4777-8A34-72BB5D13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D01F-2044-406E-898A-7D4AF272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3075-46D9-4DDA-A73C-69D0B764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0211-268E-4B49-814C-3EC694D3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5EE3-9455-412A-83DF-1FC399A5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F843D-1EF2-43A9-B703-C9E3F8D8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5708-77DF-4202-B7F6-08A54816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51D5-5522-4E5C-928B-F8444DC3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188F-172E-46A8-808C-F5C3BFB1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B0C0-146C-4BB7-B216-027CED3D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DADD-A671-4E78-A81D-13AA011D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0051-0E32-42AC-A79C-A9B3047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6637-82B8-4529-977A-7BE30592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DE5B2-9AE2-4613-8D24-0DBA7DE3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6395-ED85-4302-BF49-E8E26D9A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2ADB7-8686-48E1-8C47-E11B2F7B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F54A6-DB8F-48ED-81CC-03E6FC0D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F689C-F27B-4D1F-9AEE-293E941E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681FE-F2C0-4A05-8E41-AAA1F4BC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26ACE-3DA1-48A0-AB19-932B5A3D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548D-824D-49F2-8E19-C987D52F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14B0B-EB8B-440B-8964-4BF0907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7B0A-5270-45AD-AA19-52A8E603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3908-4972-4901-8D40-596498C5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96AB-7BBF-4DC4-9B90-ED9CA52F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13C1-303F-41E1-AA0C-C7520397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0A64-DE11-4AB0-B206-B5E06D19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5886-68B0-4930-8D3D-2440F555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35D3-E818-4245-9C9F-2CDBB35F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22844-315B-4151-BF69-2D4B9C51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70018-629C-4022-A7AF-E6AFD347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9E522-E5EF-4263-A273-B8E21CEE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3EB7F-157F-46F3-8B84-A7CF9DD8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34289-3257-45CD-A5E9-0D98E18F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28C32-2790-4159-AC8E-78AFDC2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8347A-4093-4B04-9EAA-0B373043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41AD-AA0F-4B60-BD27-4951CE54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38C2-18E1-444E-858B-01195277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7150-6D27-46C3-B020-5F7CD60B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BEFB2-924A-4EE7-B7B7-00C99AB2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063D-A4EC-4EDB-A11D-7418CDF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6BEF6-D7E7-4999-8409-580F3601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BF42C-3E2F-4E14-B27B-65DC516C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B98AB-44D9-4CD9-A769-183C7D2F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852CD-E5C4-4CA2-A4BB-2A3008E9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70EFD-CE79-432F-B717-BE7DE5A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66129-9C8F-4798-8CD3-5B9ED1C0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13FC4-07D7-49A2-A758-C1AD5C4B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0664-6302-475B-AFB5-B391E479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0140B-198B-4DB6-9A31-87C50405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657C1-5E7A-4E58-AC55-1804BFBE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58F01-B610-4B35-B839-7D4AEFFE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C497F-9EDE-4D3E-9CE3-517CF91F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66383-82F8-4925-942F-44386769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FB03E-4031-4BDD-872D-40BE57B8507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78327-E2B9-420A-8576-AD7038C666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0A638-9EF7-46C1-9BB9-2DBC451A6174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0841A-FDB4-4CD9-9B42-809BF717C1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2D724-33EB-4791-AF52-144587E9F02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3F081-B76F-44FF-B7E2-35D48AC7F7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ver.jpg"/>
          <p:cNvPicPr/>
          <p:nvPr/>
        </p:nvPicPr>
        <p:blipFill>
          <a:blip r:embed="rId3"/>
          <a:stretch/>
        </p:blipFill>
        <p:spPr>
          <a:xfrm>
            <a:off x="1922400" y="457200"/>
            <a:ext cx="4592880" cy="5943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B03BC-1226-4B17-B9C1-CE987BA8A0C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240D8-BACF-484B-8F51-7BF9AF3BC1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2B530-855F-42BF-8631-D0778F0122A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BEB54-7901-413C-A473-54140D4E7E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5D8A7-B9F6-4D22-9A7A-0745CA57521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CB626-3401-4473-8824-5AA0454F29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0D068-DDE1-45CF-82A8-D09EEB1C4C1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FA23C-6445-4BEF-861C-3C5BBE087E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F07A2-E196-49D2-9FA2-82457F71BE9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71BC6-CE66-4570-A1C7-77BBE6AA55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B995C-67AE-4B75-BF9A-8B90587945CA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E321E-7B46-4B98-BDA2-0901A46CB7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5FFB89-E4A8-4997-A9B3-5E11C8EA4E92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6066E-0AE6-47AA-8A5D-A6728CFA07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Mother-to-child transmission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CV can be passed in the womb, or during labor and delive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CV treatment cannot be used during pregnanc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bavirin: causes birth def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eron: is dangerous for infants and children under two years o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ceprevir (Victrelis) and telaprevir (Incivek): must be combined with interferon and ribavirin—also cannot be us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earchers are studying new drugs to see if they are safe for pregnant women and their bab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V-negative mothers who have HCV can safely breastfeed their infants as long as their nipples do not have any cuts or crack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Mother-to-child transmission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mother is also HIV-positiv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isk of mother-to-infant transmission (MTIT) of HCV is higher—up to 20 perc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gnant women can greatly lower the risk of passing HIV and HCV to their infants by taking antiretroviral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3156c"/>
                </a:solidFill>
                <a:latin typeface="Calibri"/>
              </a:rPr>
              <a:t>ADVOCACY EXERCIS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 baseline="30000">
                <a:solidFill>
                  <a:srgbClr val="000000"/>
                </a:solidFill>
                <a:latin typeface="Calibri"/>
              </a:rPr>
              <a:t>Discussion Quest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Do people in my community know how to protect themselves against HCV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Are clean syringes, injection equipment, and condoms easy to get in my communit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How well is HCV controlled in health care settings in my countr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Is harm reduction equipment (like clean tattooing and injection equipment) available in jails and prison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Do MSM with HIV have information about sexually transmitted HCV?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 baseline="30000">
                <a:solidFill>
                  <a:srgbClr val="000000"/>
                </a:solidFill>
                <a:latin typeface="Calibri"/>
              </a:rPr>
              <a:t>Action Ste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How can we help make clean syringes and condoms more available in jails and prisons, and in general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How can we begin educating people about sexual transmission of HCV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SECTION 3. TRANSMISSION: HOW YOU GET IT, HOW YOU PREVENT IT 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CV is spread by direct blood-to-blood contact, when infected blood directly enters a person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bloodstr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CV is a very small virus, much smaller than HI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t—unlike HIV—the HCV can stay alive on surfaces outside of the body for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CV is 10 times more infectious than HI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eaching syringes can prevent HIV, but it does not work as well to stop HCV; only sterilization with heat kills HC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CV is common among people who inject drugs (PWID), since most don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have access to clean injection equi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The most common ways to catch HCV are: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haring anything that another person has used to inject drugs with, including needles, cookers, ties, cotton, straws, water, or measuring syringes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tting a tattoo with any shared, unsterilized equipment: needles, ink, or inkwells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tting a contaminated blood transfusion or blood product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spcAft>
                <a:spcPts val="1199"/>
              </a:spcAft>
              <a:buClr>
                <a:srgbClr val="ec7812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re common in some countries than oth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spcAft>
                <a:spcPts val="1199"/>
              </a:spcAft>
              <a:buClr>
                <a:srgbClr val="ec7812"/>
              </a:buClr>
              <a:buFont typeface="Lucida Grande"/>
              <a:buChar char="-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 the United States, risk was virtually eliminated in 1992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ndergoing surgery or other invasive medical procedures with unsterilized, shared equipment (vaccination, blood draws or donations, endoscopy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idney dialysis in a facility that does not practice infection control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rom mother to infant; the risk is about four percent, but if the mother is also HIV-positive, the risk is higher—up to 20 percen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aving unprotected sex with a person who has HCV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eedlestick injury (for health care providers) or other occupational hazard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HCV </a:t>
            </a:r>
            <a:r>
              <a:rPr b="1" lang="en-US" sz="4400" spc="-1" strike="noStrike">
                <a:solidFill>
                  <a:srgbClr val="93156c"/>
                </a:solidFill>
                <a:latin typeface="Calibri"/>
              </a:rPr>
              <a:t>cannot</a:t>
            </a: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 be spread by: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ing eating utensils or eating food made by a person with HC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nking from the same glass as someone with HC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ual contact (kissing, hugging, holding hand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Sharing noninjection drug equipment (straws and pipes) 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may be possible to get HCV from sharing straws and pipes (used for cocaine, heroin, crystal methamphetamine, etc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aws may contain tiny amounts of blood from the inside of someone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nose, and people may have burns on their lips from a hot pip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HCV reinfection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erson who already has HCV can get infected again—this is called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reinfe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can be reinfected even after being successfully treated for HCV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can also be infected with more than one type of hepatitis C virus at the same ti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 sharing your injection equipment or using clean/new equipment (needles, measuring syringes, cookers, cotton, water, and ties) every time protects you and the people that you are getting high with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exual transmission of HCV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one is sure whether there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enough HCV in semen and vaginal fluid to pass the virus to other people, but we do know that people have become infected from unprotected s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CV is more common among sex workers, men who have sex with men (MSM), and people who have had more than one sex partn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isk for sexually transmitted HCV is greater when blood is involved, even when the amount is too small to se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gh, unprotected anal and vaginal s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sting (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fist-fuck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when a person puts his/her hand and forearm into another person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asshole [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n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 or vag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s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x with a woman during her peri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a condom with water-based lubricant for anal and vaginal sex, and latex gloves with plenty of water-based lubrication for fisting, can reduce the risk of sexually transmitted HC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Outbreaks of sexually transmitted HCV among HIV-positive gay men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breaks have been reported so far in Europe, Australia, and the United States. Several factors seem to be involved, includ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protected anal sex; longer, rougher inter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 with many partners and group sex; meeting sex partners through the Intern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ing infected with another sexually transmitted infection, such as syphil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Outbreaks of sexually transmitted HCV among HIV-positive gay men (cont’d)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noninjection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y drugs,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ch as ecstasy, crystal methamphetamine, and cocaine, which can lower inhib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tal bleeding; recent rectal surge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, people who d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ave HCV themselves can wind up passing it to other people. For example, a person fisting with multiple partners can have blood from one partner on their hand; this blood can enter the bloodstream of other partners through tiny cuts or rips inside the anus or vagi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7:22:50Z</dcterms:created>
  <dc:creator>Lei Chou</dc:creator>
  <dc:description/>
  <dc:language>en-US</dc:language>
  <cp:lastModifiedBy>Andrea Benzacar</cp:lastModifiedBy>
  <dcterms:modified xsi:type="dcterms:W3CDTF">2013-11-03T23:14:38Z</dcterms:modified>
  <cp:revision>47</cp:revision>
  <dc:subject/>
  <dc:title>Slide 1</dc:title>
</cp:coreProperties>
</file>