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AB5AA-2B07-4DF8-AB31-638C2231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A631F-6A78-4214-88B6-63FAF0DF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34838-94A0-4F89-A5B7-1D08871C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00C60-2E6A-438A-A603-40EA6505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1886A-3511-4F3F-8198-F009F224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2E898-3727-4057-B0C0-1A37643D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2CFD1-78B6-4407-93B8-8E3DB742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90174-B1B2-4A9D-AEE8-E5B9134E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504D9-8BB0-4382-8D45-05297F5B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D836A-0B6B-49A3-BBA5-7EC486D2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305EC-235D-4DF3-B12C-5BEA587D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352B8-0816-41A1-9A11-44CCFE9A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E6961-9416-4504-94DF-26203F13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90C46-7CFC-4880-9290-6D6440AA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26A79-7070-49FD-AABB-2559A509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B5E96-DBA5-4F69-BD27-F3184428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5B69D-66CF-485E-91E7-C077E3CA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85109-6D44-4F8F-ACE5-0B3F92EE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8409E-2932-4971-A8F6-D2DF5E57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7DE0B-C558-4D2E-9999-358AD8C3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3EF72-B241-470D-9E6C-52EF9F7B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0370C-13CE-404E-88A6-B45008FD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1706B-ACF4-4248-9C2F-CCCBFF7A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307F5-2EC8-472A-8B86-10D821CE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5DDD7-AD14-4EFF-BFCC-88BCB831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EA1AE-CE88-4F60-A7C8-A2803937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2C165-5790-455E-9379-981BA0A6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6E05F-39A4-4339-8FDF-705A798F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3B4C2-FF97-402F-A631-A2AD6F6F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25ED4-5B00-4D80-A9FE-E7AC80CD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BBFB7-CEDB-4DD3-9CAB-D1FF2903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7489B-FEBB-4B80-96DB-C814E01E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FDAC8-17B9-42FA-9BD3-D49FB6DF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5DEF0-EB08-4351-A096-39BD48A4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163A4-70E3-4C19-B5B2-DC379169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796B2-82FD-4669-8040-C2B35F3A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BD4EA-93EB-447D-B932-E8BEAE2F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54C41-4BB4-43E0-BD17-B55F9A7A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DD8ED-5106-451D-8C11-2DD808EA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C0BCE-8EE8-443B-83A2-BAF1375D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79892-94C8-4B46-AF07-7E621009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18E54-6495-46F0-BA60-A186C006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B3949-61CC-4453-A893-6DAACDF5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E2FB4-7838-4E96-A9B2-9E8396F5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A4F3F-D5FC-4324-BDAB-1921EBA0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FFAD-382C-4A66-BBA9-B69E069F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192-B5EA-474D-9E1D-45FC0320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E62A-F8DA-4A57-8D12-E0E5F39B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798B-6DEE-4BA3-B8E5-B89F82F9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1DA5-B54A-4664-B355-4DA2A42E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BE46-F7BA-4264-B7D9-8659D14A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37FC-F1CC-4E00-80E4-F409D5A0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C5CA-8D7C-4899-8DE0-FEF2F999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FD0F-6334-4868-9482-846A9350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0887-28F5-4C31-8213-D2E3B543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6092-4CC9-415D-BA15-42C487F7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A040-0EDD-4B73-956A-D9ECDE8A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D0CF-D8E0-44C4-92EE-13D05CDD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31B6-E739-4245-919E-F5514092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9386-858E-4C5F-A633-B089C666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2306-07F1-4F82-B9BF-59CD2A22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7B5D-6882-4A1B-8DB9-15BD1532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8F24-3AA9-4363-AD5B-3A40FE70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B0FA-3AA6-4678-A56C-972C6158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C8AA-D30B-4AD3-89FB-E73CC98D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C30F-666A-49D8-A954-0BDC90DB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11A6-602F-4807-A101-AAA36507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AA10-445B-448A-8E27-D1DE39C9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B99B-9FBD-40C1-81CE-467718B1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91109-6D6C-4071-9441-F3B0F8D0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10329-8501-472E-A2B1-7E9A7013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D97C7-CCBC-45CD-A35E-16C45539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82806-CE63-4ED8-82C2-F53EB76E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B59FB-A5AF-4981-A3FC-73C5454C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87123-22E0-4B81-957E-B2A80AF2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DE89E-4A35-466D-AC52-02523C15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381E8-67D4-4B2E-B51F-D1AE1F1A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39AD9-0F74-4F4C-BF45-D25D1C78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B114B-9575-4471-97CA-CACCEF93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9D167-4184-4F38-B230-36E123EE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0AFBD-78BB-49C8-8ACC-24B1BDCD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DB3E5-1114-48A5-9DCD-E71C09A6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8AD42-CBA6-4DBE-A681-6C22B0DD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F202A-C193-4EE8-84C4-58AD29F3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F3363-951A-4AEA-AD79-25715DA9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144A9-8E22-47D8-A43F-70CCB23B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68DCC-E65B-44C7-A7A9-C1A65D8A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CBE77-9F7A-488B-B2F4-7265F10A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06770-5092-42D8-B1D9-1563A5E4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DBE50-0918-4307-96F0-692929BE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D3B1C-C0D8-468C-BA53-E422BB4B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F34BF-D9DE-40D3-ACF4-3C944C83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51D8D-E5D3-4C14-AF41-C9B68D93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5ABCC-EB8C-4045-AEEF-7A66A4EE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45005-48DC-4909-B0F9-1774083F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E2A4C-9B05-41E4-99B0-71AB15E7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197CD-B4CA-4247-8C0B-B174B733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9E475-F3E6-47BF-9358-B44A2B22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8ACFB-9BE0-4050-A60D-D5A9D17F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B1664-2C3F-473E-8D1F-6EDABAC7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8F90D-DCD0-4460-A196-0164D5ED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7C8A7-BF08-4703-AE20-E9A6C38A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37A5D-8A51-42A2-8A22-5255578E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2EE93-2AD6-4300-B45A-6B86D4DA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FB440-148D-441A-8D9A-1E3FBFED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EF9EF-0C3C-49C8-828A-77FAFD8B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9E441-27C6-4793-99EC-1521CEBB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9677B-FAF8-4379-976F-69D7C099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C579B-094E-40C4-B9A4-532B1C54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E9734-F2E8-4DD5-AE0E-059218FD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26653-A0ED-4870-86B6-102CF3D9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B64B1-87F8-4827-AC20-740F7B33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C337D-46AC-4719-B065-00522407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99447-1A54-4C32-8596-65691F27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AA132-326D-4A89-B939-92D7402D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D02B8-CE57-4A21-8E08-8AE1F180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2CF05-93ED-4D77-B832-86334C00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27A85-C68A-4A1B-9BD3-32B4E0EE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4B9F8-62D6-44CF-8262-9A2B8CFC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3D83F-1327-4610-9154-8337F892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B686B5-DA95-49A6-A914-E3AF56AD7919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E462AB-3F5F-4573-9178-692DFF33087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1DF1E-48E8-461B-B5BE-DDC870D6306E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1AC9EE-309A-4878-A1E8-9D785598B5E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FB1C3-5E13-48D6-B81A-E78EF925FE6E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B39C7A-94A3-4C65-8C7B-0905D337445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cover.jpg"/>
          <p:cNvPicPr/>
          <p:nvPr/>
        </p:nvPicPr>
        <p:blipFill>
          <a:blip r:embed="rId3"/>
          <a:stretch/>
        </p:blipFill>
        <p:spPr>
          <a:xfrm>
            <a:off x="1922400" y="457200"/>
            <a:ext cx="4592880" cy="59436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5267C6-8646-4E9B-8D39-B738601DC16C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852041-538A-44AA-AA50-98AA3A1D2A5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192770-9F11-4805-92B6-C19BFC545C1B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2CFA73-BE84-4104-9146-4669298C475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5F2D12-FE3D-4E58-ABC8-0043C163A272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4F7084-2E5A-484B-908D-B9BC17F882A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D1940F-F413-4AF6-ADE0-1E74E7B56B88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03819-8409-4B9B-B9EE-463A831793E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3D1EFC-57D4-4BC1-952A-02B1BBCC9617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6FD07-ABA0-4E9E-BEC7-3F9D6D27D95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FE9545-DA7C-4602-8AEE-82DFDFD8179C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EC5D64-F7BF-4EFC-A0BF-CB7F41CFD82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AAF709-502A-4F21-A330-94D7B8516823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D2ADC5-0149-4062-BA31-D0744A95179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3156c"/>
                </a:solidFill>
                <a:latin typeface="Calibri"/>
              </a:rPr>
              <a:t>Liver Biopsy</a:t>
            </a:r>
            <a:endParaRPr b="0" lang="en-US" sz="36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liver biopsy is the best way to find out what condition a perso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liver is in: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nflam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grade) an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car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stag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ring a liver biopsy, a very small piece of liver tissue is removed with a need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issue is then examined to see how much damage there is, and what is causing the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ually, a person will stay in the hospital for a few hours afterward to make sure that there are no complic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3156c"/>
                </a:solidFill>
                <a:latin typeface="Calibri"/>
              </a:rPr>
              <a:t>There are drawbacks to liver biopsy</a:t>
            </a:r>
            <a:endParaRPr b="0" lang="en-US" sz="36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tissue sample is not large enough, or is taken from a less damaged part of the liver, the results will not be accu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psy is expensive, and many people are not able to afford a biops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 also be painf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3156c"/>
                </a:solidFill>
                <a:latin typeface="Calibri"/>
              </a:rPr>
              <a:t>There are drawbacks to liver biopsy</a:t>
            </a:r>
            <a:endParaRPr b="0" lang="en-US" sz="36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9" name="Content Placeholder 2"/>
          <p:cNvSpPr/>
          <p:nvPr/>
        </p:nvSpPr>
        <p:spPr>
          <a:xfrm>
            <a:off x="457200" y="1752480"/>
            <a:ext cx="76201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is a small risk of complications—such as internal bleeding, or missing the liver and piercing a nearby organ—and a much, much smaller risk of dea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always important to ask how much experience a doctor has had in performing biopsies, what kind of pain medication will be offered, and how long the hospital stay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may be helpful for you to ask someone who has had a liver biopsy how it was, and if they recommend the doctor who did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irrhosis can be diagnosed without a liver biopsy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mbination of blood tests can be used inst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liver specialists, particularly in Europe, are also using a machine called FibroScan that looks at liver stiffness using sound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broScan is not widely available in most countr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difficult to diagnose mild or moderate liver disease without doing a biop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3156c"/>
                </a:solidFill>
                <a:latin typeface="Calibri"/>
              </a:rPr>
              <a:t>Liver biopsy is not always necessary </a:t>
            </a:r>
            <a:endParaRPr b="0" lang="en-US" sz="40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people do not have a liver biopsy before starting HCV treat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, this is because of the cost, or because there is no experienced doctor available to perform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ver damage from HCV can develop faster in HIV-positive people, so some health care providers think it is a good idea to go ahead and treat coinfected people whether or not they have had a biops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3156c"/>
                </a:solidFill>
                <a:latin typeface="Calibri"/>
              </a:rPr>
              <a:t>ADVOCACY EXERCISE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Discussion Ques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Are all the different HCV tests for making treatment decisions available? Is cost a problem? Are the tests covered under your insurance pl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Do doctors take the time to explain test results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Action Step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What kind of tools can help people understand test resul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What can we do to increase access to expensive tes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With whom can we make alliances to increase our understanding of and access to these important tes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3156c"/>
                </a:solidFill>
                <a:latin typeface="Calibri"/>
              </a:rPr>
              <a:t>SECTION 6. HCV DIAGNOSTICS FOR MAKING TREATMENT DECISIONS </a:t>
            </a:r>
            <a:endParaRPr b="0" lang="en-US" sz="32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CV genotype te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re are different viral strains of HCV, called genoty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re at least six different HCV genotypes, each given a number (1, 2, 3, etc.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thin each HCV genotype there are subtypes; these are given a letter of the alphabet (a, b, c, d, etc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example someone may be diagnosed with HCV genotype 3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erson can be infected with more than one HCV genotype, and people who already have HCV can get infected again (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reinfect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with a different genotyp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3156c"/>
                </a:solidFill>
                <a:latin typeface="Calibri"/>
              </a:rPr>
              <a:t>It is very important to have an HCV genotype test before starting treatment</a:t>
            </a:r>
            <a:endParaRPr b="0" lang="en-US" sz="36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 care providers can order a blood test to see which HCV genotype—or genotypes—a person 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genotypes respond differently to treatment than oth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genotypes do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need to be treated for as long as othe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Content Placeholder 3" descr="A smouldering public-health crisis low rez.jpg"/>
          <p:cNvPicPr/>
          <p:nvPr/>
        </p:nvPicPr>
        <p:blipFill>
          <a:blip r:embed="rId1"/>
          <a:stretch/>
        </p:blipFill>
        <p:spPr>
          <a:xfrm>
            <a:off x="304920" y="228600"/>
            <a:ext cx="7405560" cy="6095880"/>
          </a:xfrm>
          <a:prstGeom prst="rect">
            <a:avLst/>
          </a:prstGeom>
          <a:ln w="0">
            <a:noFill/>
          </a:ln>
        </p:spPr>
      </p:pic>
      <p:sp>
        <p:nvSpPr>
          <p:cNvPr id="552" name="TextBox 4"/>
          <p:cNvSpPr/>
          <p:nvPr/>
        </p:nvSpPr>
        <p:spPr>
          <a:xfrm>
            <a:off x="356400" y="6553080"/>
            <a:ext cx="717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Gravitz L. Introduction: a smouldering public-health crisis. Nature. 2011 Jun 8;474(7350):S2–4. doi: 10.1038/474S2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3156c"/>
                </a:solidFill>
                <a:latin typeface="Calibri"/>
              </a:rPr>
              <a:t>HCV Genotypes</a:t>
            </a:r>
            <a:endParaRPr b="0" lang="en-US" sz="40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notype 3 is most common in Thailand. People who have genotype 3 are more likely to have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steatosi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fat in the liver); this can make treatment less effe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notype 1 is most common in the United States. People with genotype 1 are more likely to have high hepatitis C viral loads. HCV treatment is less likely to work for people with a high viral lo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3156c"/>
                </a:solidFill>
                <a:latin typeface="Calibri"/>
              </a:rPr>
              <a:t>New treatments are in development, many specifically made to work against genotype 1</a:t>
            </a:r>
            <a:endParaRPr b="0" lang="en-US" sz="32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of these may be more effective for people with genotype 1b (vs. genotype 1a), so it is important to ask your doctor about your sub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reatments are also in development for other genotyp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some HCV genotypes are harder to treat than others, it is important to avoid getting reinfected with HCV when possi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3156c"/>
                </a:solidFill>
                <a:latin typeface="Calibri"/>
              </a:rPr>
              <a:t>Interleukin-28B (IL28B) </a:t>
            </a:r>
            <a:br>
              <a:rPr sz="3600"/>
            </a:br>
            <a:r>
              <a:rPr b="0" lang="en-US" sz="3600" spc="-1" strike="noStrike">
                <a:solidFill>
                  <a:srgbClr val="93156c"/>
                </a:solidFill>
                <a:latin typeface="Calibri"/>
              </a:rPr>
              <a:t>Genotype Testing </a:t>
            </a:r>
            <a:endParaRPr b="0" lang="en-US" sz="36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L28B is a gene in our body that plays a role in the immune system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defense against certain vir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one gets one IL28B gene from each parent—either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erson can either have the IL28B CC, CT, or TT geno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find out your IL28B genotype through a blood test (called the IL28B genotype t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IL28B Genotype Testing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ith the IL28B CC genotype are more likely to be cured by HCV treatment with peginterferon than people with the TT geno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e rates among people with the CT genotype fall somewhere in betw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treatments that are not influenced by IL28B genotype are being develop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3156c"/>
                </a:solidFill>
                <a:latin typeface="Calibri"/>
              </a:rPr>
              <a:t>IL28B is inherited; your ancestry can help determine which genotype you have</a:t>
            </a:r>
            <a:endParaRPr b="0" lang="en-US" sz="3200" spc="-1" strike="noStrike">
              <a:solidFill>
                <a:srgbClr val="93156c"/>
              </a:solidFill>
              <a:latin typeface="Calibri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304920" y="1600200"/>
          <a:ext cx="7619760" cy="1857240"/>
        </p:xfrm>
        <a:graphic>
          <a:graphicData uri="http://schemas.openxmlformats.org/drawingml/2006/table">
            <a:tbl>
              <a:tblPr/>
              <a:tblGrid>
                <a:gridCol w="1523880"/>
                <a:gridCol w="6095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ce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centage Likely to Have IL28B CC Gen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ric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–5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op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–8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 As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–9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t As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–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sp>
        <p:nvSpPr>
          <p:cNvPr id="563" name="Content Placeholder 2"/>
          <p:cNvSpPr/>
          <p:nvPr/>
        </p:nvSpPr>
        <p:spPr>
          <a:xfrm>
            <a:off x="304920" y="3657600"/>
            <a:ext cx="76197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erso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IL28B genotype never changes, so this test needs to be taken only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nowing your IL28B genotype can be helpful to you and your doctor when discussing treatment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r IL28B genotype may determine what medications you take and how long you need to take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18:13:04Z</dcterms:created>
  <dc:creator>Lei Chou</dc:creator>
  <dc:description/>
  <dc:language>en-US</dc:language>
  <cp:lastModifiedBy>Andrea Benzacar</cp:lastModifiedBy>
  <dcterms:modified xsi:type="dcterms:W3CDTF">2013-11-05T18:35:43Z</dcterms:modified>
  <cp:revision>70</cp:revision>
  <dc:subject/>
  <dc:title>Slide 1</dc:title>
</cp:coreProperties>
</file>