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71847-2DEA-4C36-89FA-E6F1D20A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4EECF-8B93-4F40-917D-48862CB7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35BED-2FD6-447A-A502-24D10667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F1DD1-3027-4339-9B6D-9D23B6FD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D7173-4369-41BF-85A7-25048F44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6C677-D55F-4F02-A4FF-4BC21985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486F6-07E1-45D3-9985-58B3D119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DE783-96EA-4546-AC5D-1C4C42F1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3809B-11CA-42CE-815D-BD1D3DE1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030C5-2462-49FB-BF84-488E29F3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D32F7-BCDA-487A-AC2D-20FEFBB2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FA337-86D9-44D5-B5A5-5418ABE7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4569F-388F-4FE9-B7ED-80B7E7E6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FF889-24CF-487A-B979-4D892819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C9F39-BAE6-449C-A497-47D8C950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86086-7378-46D6-A12C-18BDA62B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6B468-6F5E-4B27-9B66-3C0384AB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198EB-946E-4F0B-9AA0-C3614318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629F4-7B58-4CBC-B379-88235E56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BB17A-4265-499F-8C9A-2967CAC9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5849E-637D-45F1-9E4D-7A9EF683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C900E-5431-43C0-BAE9-86484D5F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F0431-C918-4DA0-8D1F-5491FF35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7D5C7-E4EE-4C08-B4A3-CB43FC19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A920C-AF0E-42EF-85DE-4BF3FD6A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D575F-421B-4D5C-B169-9625A77D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51C91-7731-4F1F-932A-A0702584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BF3C7-5FF6-4851-8601-954ECFFE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E3B8C-0F81-41A1-A732-5B53D20C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67A18-D7EF-4E4A-9292-4C5CE21C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946A2-62D3-4506-A06A-72BB6E06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021A1-0A5A-487A-A758-0A883FCF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C73FA-1F34-4F5E-95CC-290D6C6A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354A4-1269-4EDB-ADEA-02C0BB8F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85720-8D84-4BE3-87E1-D31D8FDA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4CC94-6EFF-4597-9110-257BB99C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8416A-37BB-4247-A326-C4B0D36F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7B863-451E-4D53-AB4E-C7B6717D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09C1D-F957-4CFC-8B5D-F199D609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EB6CB-EDAB-4098-A935-85B261F0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0A749-89C3-4FFE-BBC0-FD5FCFB6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742F6-8DA7-4EF8-B4D3-E4549CF2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27983-06F6-4FC5-8524-E6699FA2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40327-B7A1-408A-A8DA-8E0E3E24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06F04-882A-4BB0-BA9F-FF25C69B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D06-D436-419B-B52F-0A26487B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692-73F9-42D1-8EE1-36CBE6BD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7C9-E3D2-4A95-BC3E-93FF738A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2CA-D079-42E1-A6F8-822645AD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4AE-AE56-46CF-A87A-4856B6A6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05D-23AA-4038-BDC7-BC1576D8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F4B-17CF-40B1-AA4A-76AC2FA8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BE3-7495-4005-90C0-24FA52DD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17F-38E4-4559-BBE4-F6934C85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1E5-E6C8-4048-84BB-45955E62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963-334C-4D4C-9EB1-917FAC04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593-5A64-4C21-ACE5-CE89DDCD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A36F-A589-4270-ADC2-C4F2AD45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275A-B313-4F47-B8B1-75A829F8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A571-846E-40E1-8420-1AE283A7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C554-6013-41D4-8B39-187CCC7C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FE08-A27C-490A-BE0C-2B2A987A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D105-0D2F-479A-BE40-DF6F0F28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47D3-E333-4030-8756-99FA4D88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9F66-1E64-4405-BD2D-6ADD4D84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2DCE-83B7-490E-9942-D1A3C63C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B50C-AA6B-45B1-A1D4-97B687D7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BFE0-44E6-4C8E-BD6B-EC0DE594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662D-5403-4E25-8C3E-53AF3E63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BC110-646C-4A90-9E44-155188DA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09F3-12A1-4CAA-BD25-F85AB7C0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1BC2-A806-4B85-AC28-6F7DE926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74AB-383E-4C22-9959-6865E820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0C45-0CFC-4763-8B52-2E2D982F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5054-8693-4009-9A57-2793E9DA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4123-86A2-4AEF-B598-39F04644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69F40-A89D-4F21-B859-CA2A78A4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CC6B1-C870-48B3-8426-4DBFE6F3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55AF1-89EB-46BE-A8FA-172E8202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F036-2D42-434F-AA58-88293589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3354C-40E0-4764-9069-E4BE8B78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79E50-1B90-4043-81F7-3E853EB3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B2D73-8947-44AC-8B03-51513507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F4115-5024-4EC0-A5CD-C1778572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9342A-CE87-4F7B-AF0E-7965C04D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F99F5-D233-4823-8A4A-D5190A92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EF4E7-3641-45F1-816D-820BD316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4BBCA-9FAD-4B0F-9173-86385BBA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0C46D-2E27-4FFF-8393-D8A90F42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2DE8C-0DB7-49CE-A722-EAAC5E3D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7CC3D-D36D-4819-A7AD-6EBF4771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6EE6E-363E-4CD2-9503-3C6BFC9B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5744C-DF93-44CD-9224-AB127440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858C3-484E-47DC-85C9-9707DC82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E2E80-E928-47E0-9FDF-0CA6DC1A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6EE5D-E185-476C-BC70-28995B2B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AAE3-364A-4231-819C-2B67D2C9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9A521-9EBC-456F-9B76-2132569C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54EE8-8331-4CA9-B201-9B9C3BB3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0A747-903F-4E7E-801F-C77C74C2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7C0F-E214-4C9F-B9E0-904D5F96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18CF6-E32A-4D24-8A4A-CF39A3D1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9C44C-2F7E-4052-8569-A380DDDB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F85CA-CF0D-4397-A469-17DADEA8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6264-0C09-4124-9F92-43821306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AA467-039F-4911-8808-600B5C2A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02916-EBBB-479C-9A4A-769F5A5D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24AB-35CA-4D1E-A91F-1A88E45C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D1313-81D2-46B3-B41C-327B422C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62A89-3F53-469C-AADF-A72BF433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76336-5162-4D4C-9B0D-333B9B41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11922-2F46-46F2-8347-BD8ECBBF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8AB3D-EF1D-49E8-A285-94F55E71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E60BD-541E-4F55-AC99-DF695F21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BED36-6CE8-4B6E-B5CD-5BAE5A76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DCE5F-F018-4A76-B3A3-0F2C524F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00708-1D4D-4B05-97FD-093CA86E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0885C-2B4D-4BC9-ACF0-99A4BD5E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43262-A139-45C5-A716-A25E30EF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28DB2-9293-48AC-8D93-D4706410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30796-5084-4881-B475-389975E69F7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B4F39-9BE6-472A-A10D-CA3A504FEC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7BF91-ACE3-472F-A0EB-E899921F4A6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25A16-5E4F-45A6-94D9-1CCB9398CAB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809DB-4168-4F42-A052-28AACB583EA4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C2910-E3B6-4FF3-8E05-AE44C1520B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over.jpg"/>
          <p:cNvPicPr/>
          <p:nvPr/>
        </p:nvPicPr>
        <p:blipFill>
          <a:blip r:embed="rId3"/>
          <a:stretch/>
        </p:blipFill>
        <p:spPr>
          <a:xfrm>
            <a:off x="1922400" y="457200"/>
            <a:ext cx="4592880" cy="5943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E1EFA-6285-49B0-9B98-7E485C5B5D1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CB84A-1A7B-419E-910B-EEA58B2001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3DAC0-2DC7-4E79-8D64-ADFB31C77740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C9581-31F7-4026-A70C-0F2002BF0F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8A2D4-1EB8-43FF-8620-9F176BFF7B2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C5F08-9BB9-45A3-9C1D-486ACF26A8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D38A6-4D4D-45DB-92F1-14F6837FC55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4CDDD-B6A5-4F2D-A1F9-036C9F0C307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61088-AF94-4E63-9683-83FC71270A7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93A05-DE42-494E-A6FC-402B057C44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B93FA-6E46-4AC9-838D-96FF2DEFC76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9A809-1A93-4636-A899-ECB1AD9522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08079-E138-4445-8BCB-D22F74349AD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BB38D-31BE-4FA3-B40B-EBDC42F972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SECTION 4. NATURAL HISTORY: WHAT HAPPENS TO PEOPLE WITH HEPATITIS C? 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CV has two stages: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acu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chron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ifelong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ute infection is a term for the first six months after a person gets HCV. Most people—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80 perc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do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 feel sick at all during acute HCV, and do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 know that they have HCV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ymptoms of acute HCV may inclu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undice (yellow skin and eye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ve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ling tired and weak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, vomiting, stomach pain, and appetite loss;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rk ur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3156c"/>
                </a:solidFill>
                <a:latin typeface="Calibri"/>
              </a:rPr>
              <a:t>HCV is not always chronic </a:t>
            </a:r>
            <a:endParaRPr b="0" lang="en-US" sz="40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people 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5–45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will get rid of the virus without treating it, usually during acute infe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dical term for this is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pontaneous viral clea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V-negative people, women, children and young adults, and people who have symptoms during acute HCV are more likely to spontaneously clear HC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V-positive people are less likely to clear HCV without treatment; experts think tha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p to 20 perc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HIV-positive people will get rid of their HCV without treatment versus 15–45 percent in HIV-negative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HCV treatment is most effective during acute infection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ment is much more likely to work during acute HC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who have acute HCV should wait for abou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2 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fore they start HCV treatment, since they may spontaneously clear HC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people who get HCV develop a chronic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5% of HIV-negati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and at leas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5% of HIV-positive peop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velop chronic HCV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Most people with chronic HCV do not have any symptoms at all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t the most common symptoms are being forgetful and feeling tired or depress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times people with very mild liver damage have sympto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is no clear link between having symptoms and having liver da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y people do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 have any symptoms until they have very serious liver dama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hronic HCV does not always cause serious liver damage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me people live with HCV for many years and will never have serious liver damag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ver damage from HCV happens slowly, usually over decad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t can take from 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15 to 50 year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an HIV-negative person who has chronic HCV to develop severe liver damage (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cirrhos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eople who get HCV when they are over 40 seem to progress more quickly, probably because a person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 immune system tends to slow down as they 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eople who drink alcohol—especially heavy drinkers—are more likely to develop liver dam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eople with cirrhosis are at risk for very serious complications, such as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liver cancer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liver failur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HIV/HCV Coinfection: </a:t>
            </a:r>
            <a:br>
              <a:rPr sz="4400"/>
            </a:b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Impact of HIV on HCV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CV is a serious problem for HIV-positive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V increases the risk for liver damage from HC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infected people are twice as likely to get cirrhosis as people with HCV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V speeds up the rate of liver damage from HCV; some coinfected people have gotten cirrhosis i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less than 10 yea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CV is treatable, but HCV treatment with pegylated interferon (PEG-IFN) and ribavirin (RBV) does not work as well for HIV-positive peop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V treatment can help to slow down liver damage from HCV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V treatment, also calle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ntiretroviral therap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may help keep the liver in good condition by keeping the immune system str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infected people with less than 200 CD4 cells/m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at the highest risk for serious liver damage from HCV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HIV/HCV Coinfection: </a:t>
            </a:r>
            <a:br>
              <a:rPr sz="3200"/>
            </a:b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Impact of HCV on HIV 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 far, no one is sure about the impact of HCV on HI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ing coinfected with HCV makes treating HIV more complicat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liver that is damaged from HCV may cause HIV medications to become less effective and more tox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is because a healthy liver is required to effectively process medications and remove them from the bod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CV coinfection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triples the risk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liver toxicity (also called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hepatotoxic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from HIV me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ever, many studies in HIV/HCV-coinfected people have shown that th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benefits of HIV treatment outweigh the ris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3156c"/>
                </a:solidFill>
                <a:latin typeface="Calibri"/>
              </a:rPr>
              <a:t>ADVOCACY EXERCISE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baseline="30000">
                <a:solidFill>
                  <a:srgbClr val="000000"/>
                </a:solidFill>
                <a:latin typeface="Calibri"/>
              </a:rPr>
              <a:t>Discussion Ques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Do you know people in the community who have died from HCV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When and how did they find out they had HCV? Was it already </a:t>
            </a:r>
            <a:r>
              <a:rPr b="0" lang="ja-JP" sz="3000" spc="-1" strike="noStrike" baseline="30000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oo late”? What options were available to them for treatment or suppor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Which groups of people living with HIV/AIDS may not have regular access to health and HIV car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If HCV treatment doesn</a:t>
            </a:r>
            <a:r>
              <a:rPr b="0" lang="ja-JP" sz="30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 work as well for people with HIV, should coinfected people have access to HCV treatment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baseline="30000">
                <a:solidFill>
                  <a:srgbClr val="000000"/>
                </a:solidFill>
                <a:latin typeface="Calibri"/>
              </a:rPr>
              <a:t>Action Step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What can we do to prevent more deaths from HCV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How can we get more people tested for HCV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8:13:04Z</dcterms:created>
  <dc:creator>Lei Chou</dc:creator>
  <dc:description/>
  <dc:language>en-US</dc:language>
  <cp:lastModifiedBy>Andrea Benzacar</cp:lastModifiedBy>
  <dcterms:modified xsi:type="dcterms:W3CDTF">2013-11-05T17:04:12Z</dcterms:modified>
  <cp:revision>52</cp:revision>
  <dc:subject/>
  <dc:title>Slide 1</dc:title>
</cp:coreProperties>
</file>