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8E921-401F-48AF-8C79-9AEF22BD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1AA1-4BBF-46FD-BD32-888D7ABF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9A7D4-FEB9-4A1C-A0E9-1E66AE4F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BEFC8-B1E3-40A0-925F-B96EC07C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4B812-7F91-4C65-80C3-A977DB75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6CBDD-2D3B-44B0-A9A9-5F4CD8BE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7E132-77D0-4FDF-BE9F-968CADF4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66308-37C4-4CEC-BD91-CE18FB0E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61036-37C9-4D4F-B174-FD335010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090B4-398A-46A5-A1FA-3ADE02E5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450CF-5B35-4917-B65F-B31CC439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C5B25-4D13-4A5C-AE64-F2A157A9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F2A4C-6096-46C0-BFA0-6801C4A0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B1D40-A005-4299-B15E-3636E0DB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C355-A8AE-4CB6-8066-A3412C3C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7AD5F-C530-47B4-AEC1-683BCCB2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4B920-523D-4291-9EE3-DAB6344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78335-E95D-40AE-BA05-82E29D59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51862-1C6E-4E1D-AD51-958DB0ED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CF1BA-7994-4473-B129-DCAFB7BD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01455-BC0F-4831-8A52-2ABEA155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481F9-8414-43C3-AA7D-3C330DBA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C9DA4-6D3E-4714-85B0-3A0D367F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4038D-BD32-4702-97FE-ABFCA069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9D44A-965F-4859-A90C-B79D68CF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B8331-E011-427B-A4FA-2F7E5DBB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5E2A7-F7E6-405B-863E-F52340C7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F87DE-B395-4838-967C-66419C33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12069-638A-436C-9133-399FD807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A0CD9-00FF-4E6E-8D93-9EADB77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15937-D61C-4256-84EB-2DAA9E2E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AD4E0-FF02-4508-AED0-583A0DCD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34218-A54C-4B91-A976-2BC494A4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C8B53-E2D9-4CCB-BA8B-9F3CD004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CFB6D-051F-47B1-A1C5-D160D6D8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DEA57-245E-41FE-B128-419048A1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1DFBC-2C3B-4CDD-86A4-94621862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95056-5A97-4EB3-82CF-29C687A4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D6022-8C3E-417B-8F2C-52BDE59E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92A64-2056-435B-9DAF-EE8C1561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45A04-A62D-41D3-999E-4C1D139E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BABC4-6B80-44B3-87CA-590A0C96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C0C16-22A3-4DEE-8AD2-A42631AD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1C798-D9E2-4AA9-8B18-27ED1214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40DCD-FCCB-4B49-8E45-7AA73714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3DC-FBC5-4748-9A6C-7D8A49AF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6ED-6DF3-4F31-8336-65F33A35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1BF-851F-47D5-9A01-0E25CC87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16B-7F95-4598-9317-2D1382EF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64C-3B0F-404A-B978-17A65C0F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E4C-7473-4A04-8590-EF471248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A95-FAA6-416F-B0A4-581F07C7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6ED-037A-454E-B02E-CE8814F1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F84-5C0F-406E-A241-85CEE67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E9F-0964-4AC0-8939-170BDBFA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E7B-49C3-4EEE-9412-4F6DFC93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312-1362-453F-B91E-20F24AFE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EA7-55C7-44DF-895B-870B34C4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7B2F-E8D1-446E-AF95-49FA6212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E245-550B-4DA0-A885-9013C30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F7D5-9AF7-4EE8-B099-8804F530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FEB6-0FE8-4D6C-A1CA-04CAC3E4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677F-1020-4C01-9995-82B99D59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5777-B934-4E5A-B1E3-B17FD60D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7696-320D-4FC3-B6AF-07654977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921E-3B43-45BB-B649-0A67E81D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BC3C-C146-4F89-8422-D639018D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FBD4-2D32-4E37-9799-ABC1B4AE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2842-02C5-430D-AD20-BD1A4B02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BE4B-1A22-4318-944B-C4145562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AA5D-29C4-4483-B874-4094A918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79C9-EA38-43DC-AB36-46A96364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9726-B7F7-4C99-B5A5-45E7F92C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BAF1-907E-4DF6-8ADB-E7AE57B5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C2CB-AC16-4907-B50B-A0CDA66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36EC-95B8-4F83-8760-09EE1AFF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2927-25BB-48F8-9CE3-8E2C06E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9051-64EF-418E-9406-5F31655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FF7E-DD27-4A37-9A58-648C1DB8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A2C3-667D-4F30-968E-C36E5026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5048-8526-4376-B3DE-9AF2B1B5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9282-A8E6-44A7-8A4C-6DA1AE5A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55E6F-B677-488E-97F3-B97684E3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6F65-9EB2-414E-BE0C-38A7CCAC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73B54-87CA-408D-B429-D8D5AEF0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B02A-FAE7-4B9D-971C-00E62CF6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DBC2-A6CD-46F5-A1AC-455DF586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57CB2-49F0-46BF-8096-FA37F337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E41C-B706-4033-8B3A-4C9488EB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72216-093B-4D2E-A387-3666EAEC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5ABE-2AE1-4F90-BD49-AEF7AE37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37373-464C-44AA-A1FB-561EE230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C6D6E-6354-4917-9A33-34A6897B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C746-38A7-4A5B-9A7B-355ED2A7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C9BB-8696-4930-801A-6AE9C969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40F4-9AD5-43FD-82AA-11DA7AC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E5227-0C8C-4644-A07B-3DBEFC02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FF400-20AD-4E0C-8B02-42B52584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7B141-052B-4116-9EDE-CD2CF26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7007A-9F49-45E4-BFAA-628051E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C33C7-9874-41F5-93F5-7471DD8C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ADE53-6D29-4B0D-83A8-5C1BD36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FDD5B-D232-474A-8570-18E3679F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78442-93AD-4321-81A7-0A244AD7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EC0D1-2917-4046-BB47-CDA1AA17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03775-9292-4873-A78A-8A109C08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48E61-C663-4F7E-90B9-2E1ABB4E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4EB19-0406-4A3E-9B0A-BCF67099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7A0E4-F2F4-4406-9434-B893A69C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8305-CB2A-4E09-B127-29F80B30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49B38-05E4-4F20-A588-6EE22C2A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D95C7-F93C-4234-92DD-786C9A5E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6A963-6D85-40EF-AD63-88B4C199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D042C-0E54-4B90-A089-CEDCF248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C6D1-179A-4DA8-852F-9A57180D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4764D-FBCC-4848-9BF2-87E2DB8C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388E1-9A0F-4A40-A6A8-E93AA7B6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9BBD-A8B1-451C-BA96-DC816D7E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99476-760A-4FC7-8C77-802A25D2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E825E-BB54-4638-8F58-DB5212E7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91288-DD0C-4BE0-A08B-73D3B43854E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9465B-CD1D-4DD5-A3CD-5DAB81C7CF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FBFD7-6E47-4A4A-A2A6-E76B6B5B773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E02E3-289E-4CD1-9DE3-C3EA41CC42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8E149-E4F9-4BAA-8613-A596A8BF3AD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87EFC-0121-4CA6-BF27-35A777F0A9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ver.jpg"/>
          <p:cNvPicPr/>
          <p:nvPr/>
        </p:nvPicPr>
        <p:blipFill>
          <a:blip r:embed="rId3"/>
          <a:stretch/>
        </p:blipFill>
        <p:spPr>
          <a:xfrm>
            <a:off x="1922400" y="457200"/>
            <a:ext cx="4592880" cy="5943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A1A79-8A35-4113-A983-43BF1AF003B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23E6D-0916-44CB-9B28-7BDD9D6A31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46ABD-83D1-45A6-A390-5DBDCCE7DD6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85BE6-B4BF-4AF2-8634-DE405AF94B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8D60C-EFBC-4FA5-9F2F-E60F154A4AA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E7814-1685-4529-8BC9-AE56F7D681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ADC7F-1615-43D9-8D14-DEAA8E486C1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648D6-7A47-4598-BC6A-8CC3356063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F92EC-516B-4BF1-9EBE-4AD61C1227E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CB2A6-E194-4EC0-B487-52635763DA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2FE0A-6ABE-4A97-9684-34733D54E3E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37D38-2DD1-49C6-AEA5-703A89595A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2EC06-E0C2-4122-975A-CF170E2014B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2AAB2-C920-4E75-A939-531446F6FE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Protease Inhibitors 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4" name="Content Placeholder 2"/>
          <p:cNvSpPr/>
          <p:nvPr/>
        </p:nvSpPr>
        <p:spPr>
          <a:xfrm>
            <a:off x="457200" y="1752480"/>
            <a:ext cx="7620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aprevir (Incivek) and boceprevir (Victre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also known as direct-acting antivirals (DAAs), as they were designed, studied, and approved specifically to treat HC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combined with PEG-IFN and RBV, these drugs can increase the chances of curing HCV geno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people with HCV geno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drugs are being developed for other HCV genoty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elaprevir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ined with PEG-IFN and RBV for 12 week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hree drugs may be stopped after four weeks if treatment does not appear to be wo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G-IFN and RBV are then continued, without telaprevir, for another 12 or 36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previr is taken six capsules a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99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capsules every 7–9 hours, 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99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capsules every 12 hou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Boceprevir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ed to PEG-IFN and RBV after four weeks of treat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reatment is not working, all drugs may be discontinued after 12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reatment is working, all three drugs will be taken for another 12 to 36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duration depends on the perso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hepatitis C treatment history, health of his or her liver, and response to treatment as measured by viral lo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ceprevir is taken in four capsules every 7–9 hours for a total of 12 capsules a da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urrent HCV treatment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cure every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ng is complic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can take many months to compl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many, sometimes serious,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New HCV Drugs in Development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ers now know more about how HCV reproduces and causes liver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new treatments are still under investigation (they are not yet approved for u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se medications become approved and available, drug combinations that include PEG-IFN and RBV may not be needed for every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hese new drug combinations may be: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ier to 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edications in development can be taken by mouth, either once or twice a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dications will be combined in single-tablet formulations (called fixed-dose combinations, or FD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hese new drug combinations may be: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ly eff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edications, when used in combination with each other, are expected to work better than current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ay be especially true for people wh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tolerate PEG-IF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respond well to interferon,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cirrhos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hese new drug combinations may be: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ctive against many HCV g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medications are not as effective for people with some HCV g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pe is that new medications will be equally effective for people with all g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hese new drug combinations may be: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160020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fe and tole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G-IFN and RBV can be very difficult for some people to tole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As may have fewer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if PEG-IFN or RBV must still be used, the addition of DAAs m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en the length of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e severity of side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cure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New HCV drugs will need to be taken regularly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with HIV drugs, missing doses can lead to drug resist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 result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ctivist advoca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rug companies have agreed to study a number of these new drugs in people coinfected with HIV, people with cirrhosis, and other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er-to-trea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oups who have traditionally been left out of HCV drug development t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SECTION 7. HCV TREATMENT AND </a:t>
            </a:r>
            <a:br>
              <a:rPr sz="3200"/>
            </a:b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SIDE EFFECTS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CV treatment is recommended only for people who show clear signs of worsening liver dise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cause treatment can cause side effects and there is no guarantee that it will work, people must weigh the risks of current therapy against the benef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everyone with chronic HCV will experience progressive liver disease, but in people who do, treatment should be started before the liver becomes severely dam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new medications that are easier to take and better tolerated become available, treatment may be recommended for people with HCV regardless of their liver disease stat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Access to HCV treatment is an important advocacy issue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prices and patent protections keep new HCV drugs out of 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ic ribavirin is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ic forms of PEG-IFN, calle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iosimil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re available, 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regulatory guid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safety and effectiveness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to determine the qua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to register them outside of the producer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3156c"/>
                </a:solidFill>
                <a:latin typeface="Calibri"/>
              </a:rPr>
              <a:t>ADVOCACY EXERCIS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Discussion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Do you know which HCV drugs are available in your count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If available, do you know how much they cos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Action Ste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can you do to make more information about these treatments available for people who need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can we do to make HCV treatment more accessibl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Treating HCV is never an emergency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commen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people who already have some liver scarring and inflammation, because they are at risk for cirrh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ot recommende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people with very advanced liver damage, because it can cause liver failure. People in this situation need a liver trans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re important for HIV-coinfected peop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they may get liver damage more quickly than people with HCV alone. Successfully treated HCV can also improve liver health and make HIV drugs easier to tole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HCV treatment requires a combination of drugs 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regimen containing at least two drugs: 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egylated interfer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PEG-IFN) an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ibaviri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ken for 12 to 72 wee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length of treatment depend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people respond to it after 12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HCV genotype they h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high their HCV viral load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HIV stat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New treatments for HCV genotype 1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129492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available, people with HCV genotype 1 should also receive a third drug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elaprevi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oceprev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expensive and difficult to 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three times a day, combined with PEG-IFN and ribavirin for 4–44 weeks. The length of treatment depends 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rug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tarting HCV treatment for the first ti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mount of liver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HCV Treatment Risks and Benefits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of these drugs can cause serious side eff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is important to learn about the risks and benefits of HCV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of the best ways to do this is to talk with people who have been on HCV treat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Pegylated Interferon (PEG-IFN)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feron is a protein made by the human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ends virus-fighting messages to the immun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uch larger dose of man-made interferon is given for HCV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gy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ans that a molecule has been attached to the interferon, keeping it in the body longer and making it more eff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 interferon was pegylated, people had to inject it three times per week (for up to 48 week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G-IFN is just one injection per week—more effective and more convenient—than standard interfer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Pegylated Interferon (PEG-IFN) 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different brands of PEG-IF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egIntr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y Merck: comes as a powder, is dosed by body weight, and needs to be mixed with water before each inje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egas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y Roche: comes premixed and is not dosed by weigh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need to be refrige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, unpegylated interferon is no longer the standard of care,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hould no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u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Ribavirin (RBV) 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e family as some HIV drugs, called nucleoside analogues, but it does not work against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bavirin works against HCV when used with PEG-IF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 part of the standard of care in treating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very effective by itself and should not be used al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bavirin is given as pills or capsules, twice a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ose depends on a pers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weigh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5:08:03Z</dcterms:created>
  <dc:creator>Lei Chou</dc:creator>
  <dc:description/>
  <dc:language>en-US</dc:language>
  <cp:lastModifiedBy>Andrea Benzacar</cp:lastModifiedBy>
  <dcterms:modified xsi:type="dcterms:W3CDTF">2013-11-05T18:48:01Z</dcterms:modified>
  <cp:revision>75</cp:revision>
  <dc:subject/>
  <dc:title>Slide 1</dc:title>
</cp:coreProperties>
</file>